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16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72F2-11C2-4B88-931F-BB62F7FF9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3EB2-7A50-41C5-92A8-784399EE0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D1C4-CB24-4847-8B52-05C902DF8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D371-FD98-49D2-B512-9E33B05EE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BE4D8-2947-4345-9FEC-18AA17BA4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BD391-BE5B-4CB8-ACAC-250C4238E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05C4A-BA56-4B6A-86F0-2AD517E29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81AFF-7038-4B8A-A5F2-5E472729D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1315A-1968-4E57-ABD1-5F38AB9BE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05910-54CF-4F47-A411-32065FADF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7D28A-6F1D-46BB-BFC9-AA152145F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A79D-ABB7-46A6-9F83-2C727FE98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A86BA-7409-43C8-A266-F7ED6AEEB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6AC29-A8DB-4BE1-A37A-CAFD60375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C14C1-A142-4650-A782-B1BC987B3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22AFA-FD6C-4CD6-BE31-BF02263F6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6E9EE-5C37-4C28-AB68-F87DA7645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E704-4E9E-4022-AADB-C5D7D333F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E768-E637-403C-B0B0-7C6677029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0F07-1B26-48C8-8678-ED0051283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9A5C-2000-46EF-B2C1-9607DFC16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E469-760C-4B61-BBD9-E6026B52D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4A55-C766-4568-88D0-503B3CEB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FABD-2061-4C63-A619-C7E3A09AE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2D3C9-8030-4FCE-ADAF-0D5419FD56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7633C-16A8-4CC6-8F7B-6FA705224D72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990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PDP1 Design Workshop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ilicon Valle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orth Interest Group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une 25, 20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n-Hanson T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66978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LU Instru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Y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0 ad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 Y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2 subtrac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 Y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4 multiply step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 Y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divide step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x Y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4 incr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p Y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6 increment and skip if pos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 Y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 logical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or Y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 exclusive 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or Y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inclusive 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66978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gister Instru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 Y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0 load accumula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c Y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deposit accumula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p Y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6 deposit address pa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p Y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 deposit instruction pa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o Y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2 load in-out regist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o Y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load in-out regist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zm Y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4 deposit zero in memor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66978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ransfer Instru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ct Y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 execut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mp Y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0 jump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sp Y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 jump and save program count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 Y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call subroutiin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da Y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 jump and deposit accumula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d Y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skip if accumulator and Y diff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s Y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2 skip if accumulator and Y are th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66978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hift/Rotate Instru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za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0100 skip on zero accumula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0200 skip on plus accumula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0400 skip on minus accumula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zo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1000 skip on zero overflow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2000 skip on plus io regist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zs    640010-640070 skip on zero switch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zf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0001-640007 skip of zero program fla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DP1 Instruction se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6" name="Content Placeholder 5" descr="PDP-1_2.jpg"/>
          <p:cNvPicPr/>
          <p:nvPr/>
        </p:nvPicPr>
        <p:blipFill>
          <a:blip r:embed="rId1"/>
          <a:stretch/>
        </p:blipFill>
        <p:spPr>
          <a:xfrm>
            <a:off x="609480" y="2286000"/>
            <a:ext cx="8921880" cy="26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66978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hift/Rotate Instru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71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r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7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tate accumulator righ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l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61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tate accumulator lef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ar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75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ift accumulator righ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al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65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ift accumulator lef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r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72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tate io register righ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l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62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tate io register lef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r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76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ift io register righ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l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66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ift io register lef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cr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73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tate ac and io righ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cl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63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tate ac and io lef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cr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77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ift ac and io righ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cl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67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ift ac and io lef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DP1 Instruction se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0" name="Content Placeholder 3" descr="PDP-1_3.jpg"/>
          <p:cNvPicPr/>
          <p:nvPr/>
        </p:nvPicPr>
        <p:blipFill>
          <a:blip r:embed="rId1"/>
          <a:stretch/>
        </p:blipFill>
        <p:spPr>
          <a:xfrm>
            <a:off x="380880" y="2362320"/>
            <a:ext cx="8610840" cy="27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66978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iscelaneous Instru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ot      72nnn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-Output oper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w N 70nnn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 accumulator with 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66978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iations from PDP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irection bit not allowed in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mory can be incremented and  decremen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ift/Rotate one bit at a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O instructions use AC, not IO regis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’s complement arithmetic, not 1’s compl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66978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PGA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828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the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mu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66978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1337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DP1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DP1 Instruction 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PGA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Forth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monst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cuss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66978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PGA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828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dp1_chip.vh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dp1.vh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art1.vh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pio.vh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dp1.lp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"/>
          <p:cNvPicPr/>
          <p:nvPr/>
        </p:nvPicPr>
        <p:blipFill>
          <a:blip r:embed="rId2"/>
          <a:stretch/>
        </p:blipFill>
        <p:spPr>
          <a:xfrm>
            <a:off x="76320" y="228600"/>
            <a:ext cx="11963160" cy="63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1301112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1301112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" descr=""/>
          <p:cNvPicPr/>
          <p:nvPr/>
        </p:nvPicPr>
        <p:blipFill>
          <a:blip r:embed="rId2"/>
          <a:stretch/>
        </p:blipFill>
        <p:spPr>
          <a:xfrm>
            <a:off x="4680" y="380880"/>
            <a:ext cx="9139320" cy="60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66978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Forth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828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dp1.fe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a_pdp1.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m_pdp1.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rnel_pdp1.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f_pdp1.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dp1.m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"/>
          <p:cNvPicPr/>
          <p:nvPr/>
        </p:nvPicPr>
        <p:blipFill>
          <a:blip r:embed="rId2"/>
          <a:stretch/>
        </p:blipFill>
        <p:spPr>
          <a:xfrm>
            <a:off x="27000" y="457200"/>
            <a:ext cx="9117000" cy="59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" descr=""/>
          <p:cNvPicPr/>
          <p:nvPr/>
        </p:nvPicPr>
        <p:blipFill>
          <a:blip r:embed="rId2"/>
          <a:stretch/>
        </p:blipFill>
        <p:spPr>
          <a:xfrm>
            <a:off x="27000" y="457200"/>
            <a:ext cx="9117000" cy="59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" descr=""/>
          <p:cNvPicPr/>
          <p:nvPr/>
        </p:nvPicPr>
        <p:blipFill>
          <a:blip r:embed="rId2"/>
          <a:stretch/>
        </p:blipFill>
        <p:spPr>
          <a:xfrm>
            <a:off x="1467000" y="0"/>
            <a:ext cx="6534000" cy="68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99308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th Virtual Machine on PDP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rdware registers: AC, I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VM registers: ac, ip, sp, rp, tos, tm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ner interpreter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: ip idx ip () jmp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L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V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4" name="Content Placeholder 3" descr="Steve_Russell_and_PDP-1.png"/>
          <p:cNvPicPr/>
          <p:nvPr/>
        </p:nvPicPr>
        <p:blipFill>
          <a:blip r:embed="rId1"/>
          <a:stretch/>
        </p:blipFill>
        <p:spPr>
          <a:xfrm>
            <a:off x="1219320" y="23760"/>
            <a:ext cx="68580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3836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Forth Inner Interpret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828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22 CONSTANT s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23 CONSTANT r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24 CONSTANT i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25 CONSTANT a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26 CONSTANT t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27 CONSTANT tm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3836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Forth Inner Interpret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1760" y="20574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xt: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p idx ip () jmp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LIST: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 dac rp ddx ip lac rp () da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 lac ip dac ip () jm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T: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p () lac ip dac rp idx nex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ON: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 dac pushs ac () lac tos dac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VAR: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 dac pushs ac lac tos dac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OR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220968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: WORDS ( -- 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R CONT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GIN @ ?D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LE DUP SPACE .I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-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EAT ;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2514240" y="380520"/>
            <a:ext cx="80773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27 47522 42123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2003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2457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0733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0172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@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052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D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0074 434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0235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2374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4233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0367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0063 4327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0125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" descr=""/>
          <p:cNvPicPr/>
          <p:nvPr/>
        </p:nvPicPr>
        <p:blipFill>
          <a:blip r:embed="rId2"/>
          <a:stretch/>
        </p:blipFill>
        <p:spPr>
          <a:xfrm>
            <a:off x="4680" y="380880"/>
            <a:ext cx="9139320" cy="60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monstr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67652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TEST1 1 2 3 4 5 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TEST2 CR .” HELLO, WORLD!” 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TEST3 IF 1 ELSE 2 THEN . 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TEST4 10 FOR R@ . NEXT 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TEST5 10 BEGIN DUP . D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LE 1- REPEAT DROP 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monstr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514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X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om oct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0 OU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urn on all LED’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E OU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urn on LED-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d switch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d switch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d switch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836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st Wor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80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The easiest way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to design a CPU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is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the eForth way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68500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8195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Questions?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68500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6680" y="3048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Thank you very much.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Content Placeholder 5" descr="P1050439.JPG"/>
          <p:cNvPicPr/>
          <p:nvPr/>
        </p:nvPicPr>
        <p:blipFill>
          <a:blip r:embed="rId1"/>
          <a:stretch/>
        </p:blipFill>
        <p:spPr>
          <a:xfrm>
            <a:off x="0" y="0"/>
            <a:ext cx="9198000" cy="69055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8" name="Content Placeholder 3" descr="P1050442.JPG"/>
          <p:cNvPicPr/>
          <p:nvPr/>
        </p:nvPicPr>
        <p:blipFill>
          <a:blip r:embed="rId1"/>
          <a:stretch/>
        </p:blipFill>
        <p:spPr>
          <a:xfrm>
            <a:off x="-90360" y="0"/>
            <a:ext cx="923436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836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DP1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0574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n Neumann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096 18-Bit core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 and IO register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8 Bit instru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-bit op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-bit in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-bi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2" name="Content Placeholder 4" descr="pdp1arch.jpg"/>
          <p:cNvPicPr/>
          <p:nvPr/>
        </p:nvPicPr>
        <p:blipFill>
          <a:blip r:embed="rId1"/>
          <a:stretch/>
        </p:blipFill>
        <p:spPr>
          <a:xfrm>
            <a:off x="401760" y="762120"/>
            <a:ext cx="8512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66978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DP1 Instruction se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mory reference instru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ithmetic instru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 instru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instru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gmented instru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eral instru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ft/rotate instru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kip instru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instru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DP1 Instruction se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6" name="Content Placeholder 4" descr="PDP-1_1.jpg"/>
          <p:cNvPicPr/>
          <p:nvPr/>
        </p:nvPicPr>
        <p:blipFill>
          <a:blip r:embed="rId1"/>
          <a:stretch/>
        </p:blipFill>
        <p:spPr>
          <a:xfrm>
            <a:off x="685800" y="2209680"/>
            <a:ext cx="948852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8T06:50:11Z</dcterms:created>
  <dc:creator>ting</dc:creator>
  <dc:description/>
  <dc:language>en-US</dc:language>
  <cp:lastModifiedBy>ting</cp:lastModifiedBy>
  <dcterms:modified xsi:type="dcterms:W3CDTF">2016-06-25T04:20:21Z</dcterms:modified>
  <cp:revision>212</cp:revision>
  <dc:subject/>
  <dc:title>A 32-Bit Computer for  LatticeXP2 Brevia Development Kit</dc:title>
</cp:coreProperties>
</file>