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BCA-059C-4CE8-8D4B-5261845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679-D584-4528-BBB6-CA06F24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E62-9F72-4FED-8CDE-AD379D22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DAA-7A85-4F9F-868A-04F57D71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B0D8-3130-44E6-9CE2-C1065FB7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069-DA73-4485-A385-C5B74A5E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1F4-B5F4-4635-B4AB-6E6CE37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CE65-0FCF-4A08-9E98-FEBD194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5C8B-4B08-4B0B-8686-0CD13F8A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8F90-67D6-45DA-A0F1-C174BC2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00E7-F0E3-4CDD-ABF1-27A5EF8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E9D-0C05-4108-A02F-88E16B1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635-7ED8-403B-B32C-0E6A4F6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AA4-7296-4C34-BEA4-A0D7A35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E19-1587-47F0-AB2C-1C1EEC1A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91F-94B2-428D-BF68-088E3E78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BFE1-923A-4E19-BEE6-DACC404E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3D1-AE22-471F-A392-4BE62B9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333-B457-478F-8A31-68A280A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F94-935E-4656-A74F-97FA9B9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7EB-807F-413D-9EE2-75DA24E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E6D-8226-4666-ABA4-AF822D1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AFC-C2C4-423F-85A7-2178577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F8E-81A1-4DDB-BC3F-85CFB25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B5AE-0DCA-432D-8A16-16FEABC2FC4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8802-3A86-453B-A440-17F2BD3F21CA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328eForth for Arduino U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 H. 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 26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F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l Ragsdale’s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Hello-world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arker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o-core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lasher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ne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Keyer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hronometer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ump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eForth Tuto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17 Tutorial lesson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ermin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Word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ale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ines and cos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Guess a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SP is very ple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lash memory in ATmega328 can endure 10,000 erase-writ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ing-pong flash buffers optimize flash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.1 us per empty FOR-NEXT loop at 16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Tmega328P is forced to be compatible with e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6520" y="2742840"/>
            <a:ext cx="359748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90560" y="2779200"/>
            <a:ext cx="427644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Forth 1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Forth 2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Tmega328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mF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8eForth v2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VR Studio 4 Tool Su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Hyper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Bill Ragsdale’s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Forth Tuto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82840" y="32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eForth 1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Forth Model in 808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irect Thread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0 Primi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orted to 8051, Z80, 8096/8098, 80386, 68000, 6805, 68HC11, 68HC12, 68HC16, Hitachi H8/532, MIPS, Power PC, Transputer, M56002,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eForth 2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ubroutine Thread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ptimized for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otrted to 8051, 6805, 68HC12, Analog Devices AD2181, 80386, Philips 80C51XA, ADuC7020, Atmel AT91SAM7, STM8S105, eP32,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mega328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microcontroller, 131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 MIPS at 2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KB Flash, 2 KB RAM, 1 KB EEP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Counter/Ti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Channels 10-bit AD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RT, SPI, I2C, I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 Programmable I/O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8-5.5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AmFor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IH, Not Invented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ndirect Threa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Hundreds of littl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nefficient flash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annot be simulated in AVR Studio 4, because of the IJMP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ll words are in lower case, and it is case se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trange error hand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28eForth v2.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ubroutine Threa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ully opti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Uniform byte 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ase inse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nterpreter is in Bootloader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Optimized flash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Visible words are reduced to 140 for ease of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R Studio 4 Tool Su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VR Assembler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VR Simulator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 System Programming with AVRISP mk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perTermi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rduino 0022 supplies USB to UART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9,200 Baud, 8 data bits, 1 stop bit, no parity, no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900 ms delay after sending each line of 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end Text File option to download file to U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57:48Z</dcterms:created>
  <dc:creator> </dc:creator>
  <dc:description/>
  <dc:language>en-US</dc:language>
  <cp:lastModifiedBy> </cp:lastModifiedBy>
  <dcterms:modified xsi:type="dcterms:W3CDTF">2011-03-26T07:23:27Z</dcterms:modified>
  <cp:revision>5</cp:revision>
  <dc:subject/>
  <dc:title>FORTH for Arduino?</dc:title>
</cp:coreProperties>
</file>