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C46-4274-4C4D-970C-E5856311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3B7-121E-4C11-9592-1561BD1E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5F9-867B-46A9-9528-64E39585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847-8C50-46CA-8F75-F5383D0A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284-4EB3-43E0-AB19-64B63479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7AC0-28C8-4C83-AB4E-50A3D252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90A3-0CA2-4AD5-8B50-40F1B5D3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7F0-2ECC-4515-BFCF-84D03FD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C00F-4594-4B22-8EFA-E157E62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E694-910B-4453-907C-1DA5E17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D0EE-7502-48B9-A656-9C88680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605-5E90-431B-991C-3755F6A4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F924-9019-42F7-996F-AEB628B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512E-93A6-4368-AE69-13C1425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FBA-2318-46C8-8B0F-D288C4F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FA4-AF8C-4F7D-B9FB-B80A5D8F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36DE-067F-4086-8A89-3593BACE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4DF-8412-44FC-854A-662A97F0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03F-FFEE-43BF-9653-0D85F88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2E2-2CEB-4B7A-AD8A-41490B0B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788-4B10-4F66-B693-CFA22A95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DC3-319B-405B-AAC6-AC693BC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449-B7B2-4E7E-960E-5C59A4E4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B11-1877-4186-B2AA-8A100503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E998-DEBF-4C3F-9FA1-F890FB9C2FC0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FA64-5416-42F7-83D5-5418C81ABD4A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What is FORTH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icon Valley 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mber 18,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n-Hanson 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tructures are sublist of tokens, and they can be linked linearly inside a l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Forth compiler can be sta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:   &lt;name&gt;   &lt;lists of structures&gt;  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rammatical rules are only necessary to compile structures and liter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32 as a Forth Eng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st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cycle subroutine call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cycle subroutine return instr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ubroutine Threading Model, tokens are simply subroutines call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32 is the best list 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FORTH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is a list process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has a set of commands and a text interpreter to process lists of comm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commands are records linked into a diction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record has a link field, a name field and a code fie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Interpre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er interpreter interprets lists of commands in text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ner interpreter interprets lists of commands in token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Types of 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rimitive commands have machine code in code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ompound commands have token lists in code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oken lists can be nested indefinitely to solve all computab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odes in Text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ing mode in which command lists are parsed and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mode in which command lists are compiled into token li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Comp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compiler is text interpreter operating in compil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th compiler creates a new compound command, which is a token replacing a list of toke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th Comp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putable problems can be solved by repeatedly compiling new commands from lists of existing comman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 &lt;name&gt;   &lt;list of commands&gt;   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undation of 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amental reason that Forth commands can form simple, linear token lists is that Forth has two stac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urn stacks to store nested command return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to store parameters passed among nested comm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kens and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cept of token must be expanded to include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 can be linked linearly like tok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ide structures there are branches, loops, integer literals, and string liter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0:11Z</dcterms:created>
  <dc:creator>ting</dc:creator>
  <dc:description/>
  <dc:language>en-US</dc:language>
  <cp:lastModifiedBy>ting</cp:lastModifiedBy>
  <dcterms:modified xsi:type="dcterms:W3CDTF">2010-12-18T08:03:06Z</dcterms:modified>
  <cp:revision>3</cp:revision>
  <dc:subject/>
  <dc:title>A 32-Bit Computer for  LatticeXP2 Brevia Development Kit</dc:title>
</cp:coreProperties>
</file>