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01C1-DF2C-488A-864D-6F530C69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1645-6DF7-497D-846A-582C9B7B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7E51-60B5-4E2F-B44F-FA1C9624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D331-3868-4CE3-B664-66760385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5F05-94D3-4680-A314-4DF803ED9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C1C4-68E3-4618-8612-1E08524B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C19D-3AD0-45EC-B448-EB77016F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2A92-FB1F-43EC-ADE5-FA373CCA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1574-C46C-4BAF-BD7D-CBE89C6F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7B84-C0C1-440A-B629-7E22FAE3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E968-9A88-4F6A-835A-D3BD03CB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1FD1-18A3-4FA3-A652-242D3780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65A6-687E-4FBF-9166-D75E34A9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7CDC-C4DB-40DD-B570-DC217476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DDAB-4467-4C49-AD20-97301541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A91D-FC65-41F6-A1BF-29CFAF97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58F4-53C5-4F85-9697-4E6774D5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BE20-0A27-4F8B-9A24-D784ED4B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D068-1D18-4B07-9EC6-1BF27383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EAA6-D825-4272-A72A-76923D6B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1200-F40A-4AE5-ADAB-D808B2B7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735F-A07B-4D58-9985-32CD0DB0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2AC7-B5FF-42BE-B3DF-6A9C8760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DA3F-EFCC-4271-AF3C-4F7C8860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E785-CACD-4713-9577-695148C63C7B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97B3-2461-4289-8BE3-3AA512F52EAD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ahoma"/>
              </a:rPr>
              <a:t>A 32-Bit Computer for </a:t>
            </a:r>
            <a:br>
              <a:rPr sz="4000"/>
            </a:br>
            <a:r>
              <a:rPr b="1" lang="zh-TW" sz="4000" spc="-1" strike="noStrike">
                <a:solidFill>
                  <a:srgbClr val="333399"/>
                </a:solidFill>
                <a:latin typeface="Tahoma"/>
              </a:rPr>
              <a:t>LatticeXP2 Brevia Development Ki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licon Valley FI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ember 18, 2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n-Hanson 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Layout eP3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ke Design Planner to connect following 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master c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ru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PIO to LED and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ART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ART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Download eP32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JTAP cable connected to printer 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UART cable connected to CMO 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Invoke ispVM system to download ep32_xp2.jed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eP32 eForth signs on Hypertermi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Reveal eP3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Invoke Reveal Inserter to insert debugging logic and trac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Invoke Synplicity to synthesize modified chip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Download tp XP2 chip with ispV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Invoke Reveal Logic Analyzer to trace selected internal 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Reveal eP3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y powerful debugging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signals in internal modules can be selected for trac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veform display is like a super-expansive logic analyz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olved my reset problem in eP3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eP32 Micro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Design of eP3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eP32 Instr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Implement eP32 on Brevia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eP32 Chip Design in VH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Metacompilation of eP3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P32_xp2 Preliminary Rele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All VHDL desig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All eForth metacompiler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weForth system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This book in ep32_xp2.pd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Tahoma"/>
              </a:rPr>
              <a:t>Thank You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Implement eP32 on Brevia K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Synthesis eP32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Simulate eP32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Layout eP32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Download eP32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Reveal eP32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Synthesis eP32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Synplicity synthesis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ep32_chip.vh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ep32.vh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ram_memory.vh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uart.vh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gpio.vh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592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Synthesis eP32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Only ram_memory.vhd must be reconstructed to use RAM_Q modules in LatticeXP2-5E FPGA chi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Ep32q.mem is produced by eForth metacompiler to initialize RAM_Q modules in XP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Simulate eP3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Active-HDL simulation tools supplied by Alde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Need a test bench module to test eP32 chi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Activate ep32q_tb.vhd for functional sim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8T06:50:11Z</dcterms:created>
  <dc:creator>ting</dc:creator>
  <dc:description/>
  <dc:language>en-US</dc:language>
  <cp:lastModifiedBy>ting</cp:lastModifiedBy>
  <dcterms:modified xsi:type="dcterms:W3CDTF">2010-12-18T08:47:06Z</dcterms:modified>
  <cp:revision>3</cp:revision>
  <dc:subject/>
  <dc:title>A 32-Bit Computer for  LatticeXP2 Brevia Development Kit</dc:title>
</cp:coreProperties>
</file>