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54C-783E-45B2-A23B-3C770B73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40F-72F5-4BF4-A075-CC73A302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C62-A0E7-4B43-865C-E7D57EBB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419-FB6D-4420-A866-7B0C2434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1446-F7FA-49E6-B024-C59561BE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7374-83E6-4FF7-9260-C437EE1E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8AC3-9161-4E59-9C3E-6208E63C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0952-212A-46EE-9B82-FF0CEB1D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B3C4-A266-4085-BB5A-2E5DEC4A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EC69-2BEC-45F5-A4CA-1A653632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FCC2-C243-48EB-8EBC-C40054A2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2FED-980C-450C-9494-D24D9FAA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2DB6-4CCC-4A2F-A396-1CCA1087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C0A2-D2C3-4501-90DE-3FD3A80C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5AC3-8776-41C7-91B1-4DFE029B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2508-42EE-45AB-88C7-D59DF775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0FFB-576E-4DAA-AE02-96A99363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EED0-98E0-4BB1-8923-86B7C401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BFB-44CD-4FE7-BDC1-0B8DEDF2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B69-065B-4E10-BE1A-6054494D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8C70-EBAB-44C2-9CFC-2A50739B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2CD7-41B5-4EE4-A357-326D7C5D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A24-71FC-464C-B259-49927E72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5E8-CCE3-42B4-821D-D2E56805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B335-DD97-4F86-9731-8F503A1819F8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4449-7AA7-4F13-9232-2CEA9744A1EC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What is FORTH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licon Valley F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ember 18, 2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n-Hanson 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Structures are sublist of tokens, and they can be linked linearly inside a l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Forth compiler can be stat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:   &lt;name&gt;   &lt;lists of structures&gt;   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Grammatical rules are only necessary to compile structures and liter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P32 as a Forth Eng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st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cycle subroutine call instr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cycle subroutine return instr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Subroutine Threading Model, tokens are simply subroutines call instr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P32 is the best list 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FORTH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th is a list process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th has a set of commands and a text interpreter to process lists of comma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th commands are records linked into a diction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record has a link field, a name field and a code fie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th Interpret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er interpreter interprets lists of commands in text fo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ner interpreter interprets lists of commands in token fo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Types of Comma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Primitive commands have machine code in code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Compound commands have token lists in code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Token lists can be nested indefinitely to solve all computable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Modes in Text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ing mode in which command lists are parsed and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ing mode in which command lists are compiled into token li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th Compi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th compiler is text interpreter operating in compil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th compiler creates a new compound command, which is a token replacing a list of toke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th Compi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computable problems can be solved by repeatedly compiling new commands from lists of existing comman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 &lt;name&gt;   &lt;list of commands&gt;   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undation of 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damental reason that Forth commands can form simple, linear token lists is that Forth has two stac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urn stacks to store nested command return add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to store parameters passed among nested comma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kens and 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ncept of token must be expanded to include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 can be linked linearly like tok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ide structures there are branches, loops, integer literals, and string liter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06:50:11Z</dcterms:created>
  <dc:creator>ting</dc:creator>
  <dc:description/>
  <dc:language>en-US</dc:language>
  <cp:lastModifiedBy>ting</cp:lastModifiedBy>
  <dcterms:modified xsi:type="dcterms:W3CDTF">2010-12-18T08:03:06Z</dcterms:modified>
  <cp:revision>3</cp:revision>
  <dc:subject/>
  <dc:title>A 32-Bit Computer for  LatticeXP2 Brevia Development Kit</dc:title>
</cp:coreProperties>
</file>