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3C0-FE85-49CD-ADFC-CFD51C62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208-D982-4000-83BF-54CF25E7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865E-9AEB-4497-9BE7-70DA2994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255-1B1E-4A05-A0AB-D5A913BC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ECD3-2F66-4FB7-98D2-79581F52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F32E-1BAE-4AE4-8555-7FE8F88D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8072-6F3A-4601-83FD-14356F75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6D60-4E53-4025-905D-44C69100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C303-EF74-45BB-9538-742EE07B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D225-8AA6-441D-8EA4-2A2F4FB6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7F8F-6357-429F-AD96-FC3B71C2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581-7CB9-41C8-A5C0-7924F636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2335-B675-4295-B6CF-CB2ED222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F259-9876-436A-83DF-CF4147B3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F619-F612-404C-AEBE-43EAE414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AE9E-7803-4E3F-A0FA-989E6D54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4617-B597-4472-B26D-0DAFB4EB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CE2-3ACD-4FD5-A51B-C4661FC6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687-DBB6-4A71-9C60-9AEFFC35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9FD-7486-4D8F-B41C-257DF2ED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5FC-2D45-446D-BC93-78AFCA13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0BC-9426-4E5D-B534-E7F40313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CB6-C878-482E-A838-2DFC7C51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DC3-1038-4C58-9A7F-501A74A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ED60-0364-47FA-9EDE-FEC444AD3C07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441F-6248-4241-8C10-7A46934CA867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A 32-Bit Computer for </a:t>
            </a:r>
            <a:br>
              <a:rPr sz="4000"/>
            </a:b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LatticeXP2 Brevia Development Ki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icon Valley F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ember 18,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n-Hanson 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Layout eP3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ke Design Planner to connect following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master c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ru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PIO to LED and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ART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ART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Download eP32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JTAP cable connected to printer 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UART cable connected to CMO 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nvoke ispVM system to download ep32_xp2.jed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P32 eForth signs on Hyperterm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Reveal eP3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nvoke Reveal Inserter to insert debugging logic and trac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nvoke Synplicity to synthesize modified chip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ownload tp XP2 chip with ispV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nvoke Reveal Logic Analyzer to trace selected internal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Reveal eP3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powerful debugging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signals in internal modules can be selected for tra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form display is like a super-expansive logic analyz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olved my reset problem in eP3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P32 Micro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esign of eP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P32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mplement eP32 on Brevia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P32 Chip Design in VH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Metacompilation of eP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P32_xp2 Preliminary Rele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ll VHDL desig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ll eForth metacompiler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weForth system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This book in ep32_xp2.pd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Implement eP32 on Brevia K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Synthesis eP32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Simulate eP32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Layout eP32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Download eP32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Reveal eP3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Synthesis eP32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Synplicity synthesis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p32_chip.vh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p32.vh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ram_memory.vh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uart.vh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gpio.vh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Synthesis eP32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Only ram_memory.vhd must be reconstructed to use RAM_Q modules in LatticeXP2-5E FPGA ch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p32q.mem is produced by eForth metacompiler to initialize RAM_Q modules in XP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Simulate eP3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ctive-HDL simulation tools supplied by Ald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Need a test bench module to test eP32 ch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ctivate ep32q_tb.vhd for functional 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6:50:11Z</dcterms:created>
  <dc:creator>ting</dc:creator>
  <dc:description/>
  <dc:language>en-US</dc:language>
  <cp:lastModifiedBy>ting</cp:lastModifiedBy>
  <dcterms:modified xsi:type="dcterms:W3CDTF">2010-12-18T08:47:06Z</dcterms:modified>
  <cp:revision>3</cp:revision>
  <dc:subject/>
  <dc:title>A 32-Bit Computer for  LatticeXP2 Brevia Development Kit</dc:title>
</cp:coreProperties>
</file>