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type.wav" ContentType="audio/x-wav"/>
  <Override PartName="/ppt/media/chimes.wav" ContentType="audio/x-wav"/>
  <Override PartName="/ppt/media/camera.wav" ContentType="audio/x-wav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BB8C-E1F8-4CAE-81EE-F9E6007D7E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5806-4CCB-4E56-B2BF-1C9D221E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5C6F-22E5-4C56-9919-7FD6657B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399A-B967-4214-93B5-01F4B00F5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0DD35-44A7-48D6-A1DA-F4F7E65F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96BDB-FD1F-4EA8-BFEC-84CBDF3F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180DD-0B9E-45E7-A67E-E8CDB82A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13A52-2DF1-4ACC-BA35-2F970325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0B17F-9E37-4AE6-8B67-FF1F254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DE379-C58F-4B3E-B20C-906A58D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09798-246B-4009-8AA4-E565B5C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D7F2-8AE7-4981-A51A-F98CC82A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93363-8794-4EB0-913D-5774E61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4D031-9D9D-4399-AC9E-92E0C395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78516-BF14-4954-BA49-49BAF0E5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2ECC3-2CFA-4C9A-96E1-D24373EE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11ABE-CA1E-4403-8A38-0704A80A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7E83-DD8A-4911-9182-533E6320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3E82-DFBA-4C90-972B-C5DD6764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0404-4E94-4C67-9EA3-7D2C0F1A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7DC6-EE4B-4FE3-95F5-71B7776A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8952-9243-40C6-8D1E-D1503ED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B724-8860-4BF0-A962-3745AB0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033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FFF1-9D36-487D-AC7B-F127D176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1066680"/>
            <a:ext cx="58672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4572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858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8380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248520" y="62485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新細明體"/>
              </a:rPr>
              <a:t>Page </a:t>
            </a:r>
            <a:fld id="{C1134222-36A2-4D5C-BCEA-7D7DFEF6E122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5BBE-57CF-4732-A80C-B5A842F97324}" type="datetime">
              <a:rPr b="0" lang="zh-TW" sz="1400" spc="-1" strike="noStrike">
                <a:solidFill>
                  <a:srgbClr val="1c1c1c"/>
                </a:solidFill>
                <a:latin typeface="Tahoma"/>
                <a:ea typeface="新細明體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204040" y="5562720"/>
            <a:ext cx="4384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371800" y="6095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7816680" y="5715000"/>
            <a:ext cx="36864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8462160" y="59436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8305920" y="5562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685080" y="60199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" name=""/>
          <p:cNvGraphicFramePr/>
          <p:nvPr/>
        </p:nvGraphicFramePr>
        <p:xfrm>
          <a:off x="5724360" y="333360"/>
          <a:ext cx="315468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333360"/>
                    <a:ext cx="31546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26F8-CF68-4DA5-8CCC-B399ADD78F40}" type="datetime">
              <a:rPr b="0" lang="zh-TW" sz="1400" spc="-1" strike="noStrike">
                <a:solidFill>
                  <a:srgbClr val="1c1c1c"/>
                </a:solidFill>
                <a:latin typeface="Tahoma"/>
                <a:ea typeface="新細明體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c1c1c"/>
                </a:solidFill>
                <a:latin typeface="Tahoma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Tahoma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BF64-99D7-407A-ABA4-04F3034D8A3C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35280" y="1700280"/>
            <a:ext cx="583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FORTH Tuto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006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99"/>
                </a:solidFill>
                <a:latin typeface="Tahoma"/>
                <a:ea typeface="中易隸"/>
              </a:rPr>
              <a:t>易符智慧科技股份有限公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02880" y="3213000"/>
            <a:ext cx="2550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新細明體"/>
              </a:rPr>
              <a:t>Dr. C. H. 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新細明體"/>
              </a:rPr>
              <a:t>eForth Technology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新細明體"/>
              </a:rPr>
              <a:t>October 22, 2005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256536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新細明體"/>
              </a:rPr>
              <a:t>The System-On-Chip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35035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8DB0-0302-4F06-82C4-D1385DA5B6E9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C45E24-528E-49E5-99C0-AFD9600410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FORTH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000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TEST1 2 3 4 5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ST1 .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0C45-72FB-4919-8129-2AD5A2FDC6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1D8DA8B-19E0-434D-8566-0B5D5E8C73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FORTH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000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TEST2 10 FOR R@ . NEXT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ST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4F40-68B5-473E-A25C-7D6417B46B1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A5BA26D-E646-4FAE-B860-37BBB5CF95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FORTH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000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TEST3 IF 1 ELSE 2 THEN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TEST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 TEST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326E-6D40-43CE-B837-616E8BBAD2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4FE6FB3-0D01-4589-8EBA-342A42BCC3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Exercise 1: Big 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00092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bar   CR ." *****"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post  CR ." *    "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F     bar post bar post post post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6ADE-8203-463C-B549-146AC6EF14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D9B3E1-FFE1-4D8A-8105-28C24D7068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Exercise 2: 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中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0009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L ( pattern -- )  C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 FOR DUP 1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F .” *” ELSE SPACE THEN 2/ NEXT DROP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中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 L 8 L 127 L 73 L 127 L 8 L 8 L 8 L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 L 127 L 34 L 20 L 8 L 20 L 34 L 65 L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中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17EC-117D-49E6-90FE-1B6BE79F3C6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8A8F126-0866-4418-B51E-DF2A8601CA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Exercise 3: Temperature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0009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F&gt;C ( Fahrenheit -- Celsius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2 - 10 18 */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C&gt;F ( Celsius -- Fahrenheit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 10 */  32 + 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0 F&gt;C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 C&gt;F 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0E70-82FD-4D02-9E03-AD5EED1979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C06C50D-325F-4775-80D8-56124420F3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16000" y="155736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Exercise 4: Number Conversion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0009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IMAL 12345 HEX 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X ABCD DECIMAL 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BINARY 2 BASE !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NARY 101010101010 DECIMAL 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RADIX36 36 BASE !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DIX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1 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TRA 0FORTH MAX2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IMAL .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419B-59CA-47C9-A922-2536BE798F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D6B88E-B0F3-4901-9AEE-CB63B68EEB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87280" y="1700280"/>
            <a:ext cx="701064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Exercise 5: Random Number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0009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RIABLE RND ( seed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RE RND 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RANDOM   RND @ 31421 * 6927 +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UP RND !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CHOOSE RANDOM UM* SWAP DROP 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0 CHOOSE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0 CHOOSE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0 CHOOSE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0C20-87F3-4DBB-8112-1AD46F24C3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5C37433-6808-4075-9F77-770C7E7185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A Challen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000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Try DEMO.FE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Examine programs drawing flags of ROC, USA and PRO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Write new programs to draw flags of other countries.\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D253-4829-43EE-BC0E-44AE0FB00F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607DC76-9E77-4C92-9064-069E7BB7E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52480" y="24382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華康POP1體W5"/>
              </a:rPr>
              <a:t>Thank you very muc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19600" y="35035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876920"/>
            <a:ext cx="993600" cy="771480"/>
          </a:xfrm>
          <a:custGeom>
            <a:avLst/>
            <a:gdLst/>
            <a:ahLst/>
            <a:rect l="l" t="t" r="r" b="b"/>
            <a:pathLst>
              <a:path w="1252" h="972">
                <a:moveTo>
                  <a:pt x="1236" y="511"/>
                </a:moveTo>
                <a:lnTo>
                  <a:pt x="1042" y="815"/>
                </a:lnTo>
                <a:lnTo>
                  <a:pt x="910" y="897"/>
                </a:lnTo>
                <a:lnTo>
                  <a:pt x="852" y="820"/>
                </a:lnTo>
                <a:lnTo>
                  <a:pt x="839" y="680"/>
                </a:lnTo>
                <a:lnTo>
                  <a:pt x="662" y="892"/>
                </a:lnTo>
                <a:lnTo>
                  <a:pt x="559" y="902"/>
                </a:lnTo>
                <a:lnTo>
                  <a:pt x="492" y="745"/>
                </a:lnTo>
                <a:lnTo>
                  <a:pt x="255" y="972"/>
                </a:lnTo>
                <a:lnTo>
                  <a:pt x="207" y="907"/>
                </a:lnTo>
                <a:lnTo>
                  <a:pt x="250" y="793"/>
                </a:lnTo>
                <a:lnTo>
                  <a:pt x="66" y="815"/>
                </a:lnTo>
                <a:lnTo>
                  <a:pt x="0" y="718"/>
                </a:lnTo>
                <a:lnTo>
                  <a:pt x="38" y="626"/>
                </a:lnTo>
                <a:lnTo>
                  <a:pt x="120" y="549"/>
                </a:lnTo>
                <a:lnTo>
                  <a:pt x="86" y="463"/>
                </a:lnTo>
                <a:lnTo>
                  <a:pt x="157" y="403"/>
                </a:lnTo>
                <a:lnTo>
                  <a:pt x="434" y="332"/>
                </a:lnTo>
                <a:lnTo>
                  <a:pt x="396" y="234"/>
                </a:lnTo>
                <a:lnTo>
                  <a:pt x="492" y="153"/>
                </a:lnTo>
                <a:lnTo>
                  <a:pt x="814" y="174"/>
                </a:lnTo>
                <a:lnTo>
                  <a:pt x="812" y="34"/>
                </a:lnTo>
                <a:lnTo>
                  <a:pt x="923" y="0"/>
                </a:lnTo>
                <a:lnTo>
                  <a:pt x="1183" y="163"/>
                </a:lnTo>
                <a:lnTo>
                  <a:pt x="1252" y="337"/>
                </a:lnTo>
                <a:lnTo>
                  <a:pt x="1236" y="511"/>
                </a:lnTo>
                <a:lnTo>
                  <a:pt x="1236" y="511"/>
                </a:lnTo>
                <a:lnTo>
                  <a:pt x="1236" y="511"/>
                </a:lnTo>
                <a:close/>
              </a:path>
            </a:pathLst>
          </a:custGeom>
          <a:solidFill>
            <a:srgbClr val="3df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59520" y="5156280"/>
            <a:ext cx="282600" cy="209520"/>
          </a:xfrm>
          <a:custGeom>
            <a:avLst/>
            <a:gdLst/>
            <a:ahLst/>
            <a:rect l="l" t="t" r="r" b="b"/>
            <a:pathLst>
              <a:path w="357" h="263">
                <a:moveTo>
                  <a:pt x="249" y="69"/>
                </a:moveTo>
                <a:lnTo>
                  <a:pt x="178" y="83"/>
                </a:lnTo>
                <a:lnTo>
                  <a:pt x="105" y="99"/>
                </a:lnTo>
                <a:lnTo>
                  <a:pt x="64" y="113"/>
                </a:lnTo>
                <a:lnTo>
                  <a:pt x="22" y="125"/>
                </a:lnTo>
                <a:lnTo>
                  <a:pt x="0" y="116"/>
                </a:lnTo>
                <a:lnTo>
                  <a:pt x="0" y="105"/>
                </a:lnTo>
                <a:lnTo>
                  <a:pt x="10" y="95"/>
                </a:lnTo>
                <a:lnTo>
                  <a:pt x="30" y="86"/>
                </a:lnTo>
                <a:lnTo>
                  <a:pt x="67" y="73"/>
                </a:lnTo>
                <a:lnTo>
                  <a:pt x="113" y="59"/>
                </a:lnTo>
                <a:lnTo>
                  <a:pt x="164" y="44"/>
                </a:lnTo>
                <a:lnTo>
                  <a:pt x="216" y="29"/>
                </a:lnTo>
                <a:lnTo>
                  <a:pt x="262" y="16"/>
                </a:lnTo>
                <a:lnTo>
                  <a:pt x="323" y="0"/>
                </a:lnTo>
                <a:lnTo>
                  <a:pt x="355" y="4"/>
                </a:lnTo>
                <a:lnTo>
                  <a:pt x="357" y="28"/>
                </a:lnTo>
                <a:lnTo>
                  <a:pt x="348" y="45"/>
                </a:lnTo>
                <a:lnTo>
                  <a:pt x="336" y="66"/>
                </a:lnTo>
                <a:lnTo>
                  <a:pt x="319" y="88"/>
                </a:lnTo>
                <a:lnTo>
                  <a:pt x="299" y="113"/>
                </a:lnTo>
                <a:lnTo>
                  <a:pt x="277" y="137"/>
                </a:lnTo>
                <a:lnTo>
                  <a:pt x="266" y="149"/>
                </a:lnTo>
                <a:lnTo>
                  <a:pt x="255" y="162"/>
                </a:lnTo>
                <a:lnTo>
                  <a:pt x="243" y="173"/>
                </a:lnTo>
                <a:lnTo>
                  <a:pt x="233" y="184"/>
                </a:lnTo>
                <a:lnTo>
                  <a:pt x="211" y="206"/>
                </a:lnTo>
                <a:lnTo>
                  <a:pt x="192" y="223"/>
                </a:lnTo>
                <a:lnTo>
                  <a:pt x="176" y="239"/>
                </a:lnTo>
                <a:lnTo>
                  <a:pt x="158" y="255"/>
                </a:lnTo>
                <a:lnTo>
                  <a:pt x="126" y="263"/>
                </a:lnTo>
                <a:lnTo>
                  <a:pt x="103" y="250"/>
                </a:lnTo>
                <a:lnTo>
                  <a:pt x="99" y="218"/>
                </a:lnTo>
                <a:lnTo>
                  <a:pt x="111" y="195"/>
                </a:lnTo>
                <a:lnTo>
                  <a:pt x="132" y="169"/>
                </a:lnTo>
                <a:lnTo>
                  <a:pt x="147" y="156"/>
                </a:lnTo>
                <a:lnTo>
                  <a:pt x="160" y="143"/>
                </a:lnTo>
                <a:lnTo>
                  <a:pt x="175" y="131"/>
                </a:lnTo>
                <a:lnTo>
                  <a:pt x="191" y="119"/>
                </a:lnTo>
                <a:lnTo>
                  <a:pt x="206" y="107"/>
                </a:lnTo>
                <a:lnTo>
                  <a:pt x="220" y="94"/>
                </a:lnTo>
                <a:lnTo>
                  <a:pt x="235" y="82"/>
                </a:lnTo>
                <a:lnTo>
                  <a:pt x="249" y="69"/>
                </a:lnTo>
                <a:lnTo>
                  <a:pt x="249" y="69"/>
                </a:lnTo>
                <a:close/>
              </a:path>
            </a:pathLst>
          </a:custGeom>
          <a:solidFill>
            <a:srgbClr val="00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25920" y="5038560"/>
            <a:ext cx="3024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0" y="33"/>
                </a:moveTo>
                <a:lnTo>
                  <a:pt x="5" y="20"/>
                </a:lnTo>
                <a:lnTo>
                  <a:pt x="18" y="6"/>
                </a:lnTo>
                <a:lnTo>
                  <a:pt x="32" y="0"/>
                </a:lnTo>
                <a:lnTo>
                  <a:pt x="38" y="9"/>
                </a:lnTo>
                <a:lnTo>
                  <a:pt x="30" y="44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6560" y="5032440"/>
            <a:ext cx="223920" cy="276120"/>
          </a:xfrm>
          <a:custGeom>
            <a:avLst/>
            <a:gdLst/>
            <a:ahLst/>
            <a:rect l="l" t="t" r="r" b="b"/>
            <a:pathLst>
              <a:path w="280" h="348">
                <a:moveTo>
                  <a:pt x="209" y="119"/>
                </a:moveTo>
                <a:lnTo>
                  <a:pt x="166" y="107"/>
                </a:lnTo>
                <a:lnTo>
                  <a:pt x="109" y="87"/>
                </a:lnTo>
                <a:lnTo>
                  <a:pt x="54" y="66"/>
                </a:lnTo>
                <a:lnTo>
                  <a:pt x="16" y="47"/>
                </a:lnTo>
                <a:lnTo>
                  <a:pt x="0" y="27"/>
                </a:lnTo>
                <a:lnTo>
                  <a:pt x="0" y="10"/>
                </a:lnTo>
                <a:lnTo>
                  <a:pt x="12" y="0"/>
                </a:lnTo>
                <a:lnTo>
                  <a:pt x="36" y="4"/>
                </a:lnTo>
                <a:lnTo>
                  <a:pt x="92" y="22"/>
                </a:lnTo>
                <a:lnTo>
                  <a:pt x="146" y="37"/>
                </a:lnTo>
                <a:lnTo>
                  <a:pt x="256" y="64"/>
                </a:lnTo>
                <a:lnTo>
                  <a:pt x="277" y="76"/>
                </a:lnTo>
                <a:lnTo>
                  <a:pt x="280" y="100"/>
                </a:lnTo>
                <a:lnTo>
                  <a:pt x="269" y="158"/>
                </a:lnTo>
                <a:lnTo>
                  <a:pt x="252" y="216"/>
                </a:lnTo>
                <a:lnTo>
                  <a:pt x="242" y="245"/>
                </a:lnTo>
                <a:lnTo>
                  <a:pt x="231" y="273"/>
                </a:lnTo>
                <a:lnTo>
                  <a:pt x="219" y="300"/>
                </a:lnTo>
                <a:lnTo>
                  <a:pt x="207" y="326"/>
                </a:lnTo>
                <a:lnTo>
                  <a:pt x="196" y="341"/>
                </a:lnTo>
                <a:lnTo>
                  <a:pt x="184" y="348"/>
                </a:lnTo>
                <a:lnTo>
                  <a:pt x="157" y="347"/>
                </a:lnTo>
                <a:lnTo>
                  <a:pt x="137" y="327"/>
                </a:lnTo>
                <a:lnTo>
                  <a:pt x="133" y="313"/>
                </a:lnTo>
                <a:lnTo>
                  <a:pt x="136" y="295"/>
                </a:lnTo>
                <a:lnTo>
                  <a:pt x="157" y="233"/>
                </a:lnTo>
                <a:lnTo>
                  <a:pt x="169" y="203"/>
                </a:lnTo>
                <a:lnTo>
                  <a:pt x="184" y="176"/>
                </a:lnTo>
                <a:lnTo>
                  <a:pt x="198" y="148"/>
                </a:lnTo>
                <a:lnTo>
                  <a:pt x="209" y="119"/>
                </a:lnTo>
                <a:lnTo>
                  <a:pt x="209" y="119"/>
                </a:lnTo>
                <a:close/>
              </a:path>
            </a:pathLst>
          </a:custGeom>
          <a:solidFill>
            <a:srgbClr val="00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97360" y="4981680"/>
            <a:ext cx="185760" cy="291960"/>
          </a:xfrm>
          <a:custGeom>
            <a:avLst/>
            <a:gdLst/>
            <a:ahLst/>
            <a:rect l="l" t="t" r="r" b="b"/>
            <a:pathLst>
              <a:path w="235" h="368">
                <a:moveTo>
                  <a:pt x="19" y="0"/>
                </a:moveTo>
                <a:lnTo>
                  <a:pt x="110" y="16"/>
                </a:lnTo>
                <a:lnTo>
                  <a:pt x="195" y="52"/>
                </a:lnTo>
                <a:lnTo>
                  <a:pt x="220" y="77"/>
                </a:lnTo>
                <a:lnTo>
                  <a:pt x="233" y="107"/>
                </a:lnTo>
                <a:lnTo>
                  <a:pt x="235" y="140"/>
                </a:lnTo>
                <a:lnTo>
                  <a:pt x="228" y="173"/>
                </a:lnTo>
                <a:lnTo>
                  <a:pt x="215" y="207"/>
                </a:lnTo>
                <a:lnTo>
                  <a:pt x="199" y="242"/>
                </a:lnTo>
                <a:lnTo>
                  <a:pt x="184" y="272"/>
                </a:lnTo>
                <a:lnTo>
                  <a:pt x="169" y="301"/>
                </a:lnTo>
                <a:lnTo>
                  <a:pt x="153" y="339"/>
                </a:lnTo>
                <a:lnTo>
                  <a:pt x="143" y="356"/>
                </a:lnTo>
                <a:lnTo>
                  <a:pt x="130" y="366"/>
                </a:lnTo>
                <a:lnTo>
                  <a:pt x="99" y="368"/>
                </a:lnTo>
                <a:lnTo>
                  <a:pt x="76" y="350"/>
                </a:lnTo>
                <a:lnTo>
                  <a:pt x="71" y="315"/>
                </a:lnTo>
                <a:lnTo>
                  <a:pt x="83" y="282"/>
                </a:lnTo>
                <a:lnTo>
                  <a:pt x="93" y="266"/>
                </a:lnTo>
                <a:lnTo>
                  <a:pt x="103" y="250"/>
                </a:lnTo>
                <a:lnTo>
                  <a:pt x="114" y="234"/>
                </a:lnTo>
                <a:lnTo>
                  <a:pt x="125" y="220"/>
                </a:lnTo>
                <a:lnTo>
                  <a:pt x="146" y="190"/>
                </a:lnTo>
                <a:lnTo>
                  <a:pt x="174" y="140"/>
                </a:lnTo>
                <a:lnTo>
                  <a:pt x="176" y="129"/>
                </a:lnTo>
                <a:lnTo>
                  <a:pt x="174" y="119"/>
                </a:lnTo>
                <a:lnTo>
                  <a:pt x="160" y="102"/>
                </a:lnTo>
                <a:lnTo>
                  <a:pt x="142" y="90"/>
                </a:lnTo>
                <a:lnTo>
                  <a:pt x="123" y="79"/>
                </a:lnTo>
                <a:lnTo>
                  <a:pt x="88" y="62"/>
                </a:lnTo>
                <a:lnTo>
                  <a:pt x="51" y="47"/>
                </a:lnTo>
                <a:lnTo>
                  <a:pt x="12" y="32"/>
                </a:lnTo>
                <a:lnTo>
                  <a:pt x="1" y="24"/>
                </a:lnTo>
                <a:lnTo>
                  <a:pt x="0" y="13"/>
                </a:lnTo>
                <a:lnTo>
                  <a:pt x="6" y="3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00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3809880"/>
            <a:ext cx="680760" cy="1033560"/>
          </a:xfrm>
          <a:custGeom>
            <a:avLst/>
            <a:gdLst/>
            <a:ahLst/>
            <a:rect l="l" t="t" r="r" b="b"/>
            <a:pathLst>
              <a:path w="856" h="1302">
                <a:moveTo>
                  <a:pt x="584" y="1265"/>
                </a:moveTo>
                <a:lnTo>
                  <a:pt x="704" y="1147"/>
                </a:lnTo>
                <a:lnTo>
                  <a:pt x="856" y="846"/>
                </a:lnTo>
                <a:lnTo>
                  <a:pt x="823" y="722"/>
                </a:lnTo>
                <a:lnTo>
                  <a:pt x="721" y="710"/>
                </a:lnTo>
                <a:lnTo>
                  <a:pt x="666" y="727"/>
                </a:lnTo>
                <a:lnTo>
                  <a:pt x="709" y="510"/>
                </a:lnTo>
                <a:lnTo>
                  <a:pt x="677" y="395"/>
                </a:lnTo>
                <a:lnTo>
                  <a:pt x="492" y="456"/>
                </a:lnTo>
                <a:lnTo>
                  <a:pt x="585" y="232"/>
                </a:lnTo>
                <a:lnTo>
                  <a:pt x="584" y="87"/>
                </a:lnTo>
                <a:lnTo>
                  <a:pt x="429" y="173"/>
                </a:lnTo>
                <a:lnTo>
                  <a:pt x="346" y="5"/>
                </a:lnTo>
                <a:lnTo>
                  <a:pt x="255" y="0"/>
                </a:lnTo>
                <a:lnTo>
                  <a:pt x="179" y="119"/>
                </a:lnTo>
                <a:lnTo>
                  <a:pt x="179" y="184"/>
                </a:lnTo>
                <a:lnTo>
                  <a:pt x="96" y="201"/>
                </a:lnTo>
                <a:lnTo>
                  <a:pt x="65" y="260"/>
                </a:lnTo>
                <a:lnTo>
                  <a:pt x="120" y="471"/>
                </a:lnTo>
                <a:lnTo>
                  <a:pt x="136" y="602"/>
                </a:lnTo>
                <a:lnTo>
                  <a:pt x="31" y="592"/>
                </a:lnTo>
                <a:lnTo>
                  <a:pt x="0" y="668"/>
                </a:lnTo>
                <a:lnTo>
                  <a:pt x="54" y="798"/>
                </a:lnTo>
                <a:lnTo>
                  <a:pt x="179" y="987"/>
                </a:lnTo>
                <a:lnTo>
                  <a:pt x="60" y="1063"/>
                </a:lnTo>
                <a:lnTo>
                  <a:pt x="98" y="1156"/>
                </a:lnTo>
                <a:lnTo>
                  <a:pt x="373" y="1302"/>
                </a:lnTo>
                <a:lnTo>
                  <a:pt x="584" y="1265"/>
                </a:lnTo>
                <a:lnTo>
                  <a:pt x="584" y="1265"/>
                </a:lnTo>
                <a:lnTo>
                  <a:pt x="584" y="1265"/>
                </a:lnTo>
                <a:close/>
              </a:path>
            </a:pathLst>
          </a:custGeom>
          <a:solidFill>
            <a:srgbClr val="b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62440" y="3902040"/>
            <a:ext cx="246240" cy="235080"/>
          </a:xfrm>
          <a:custGeom>
            <a:avLst/>
            <a:gdLst/>
            <a:ahLst/>
            <a:rect l="l" t="t" r="r" b="b"/>
            <a:pathLst>
              <a:path w="310" h="295">
                <a:moveTo>
                  <a:pt x="142" y="230"/>
                </a:moveTo>
                <a:lnTo>
                  <a:pt x="149" y="228"/>
                </a:lnTo>
                <a:lnTo>
                  <a:pt x="163" y="203"/>
                </a:lnTo>
                <a:lnTo>
                  <a:pt x="179" y="175"/>
                </a:lnTo>
                <a:lnTo>
                  <a:pt x="196" y="146"/>
                </a:lnTo>
                <a:lnTo>
                  <a:pt x="213" y="115"/>
                </a:lnTo>
                <a:lnTo>
                  <a:pt x="231" y="86"/>
                </a:lnTo>
                <a:lnTo>
                  <a:pt x="250" y="56"/>
                </a:lnTo>
                <a:lnTo>
                  <a:pt x="266" y="31"/>
                </a:lnTo>
                <a:lnTo>
                  <a:pt x="282" y="8"/>
                </a:lnTo>
                <a:lnTo>
                  <a:pt x="293" y="0"/>
                </a:lnTo>
                <a:lnTo>
                  <a:pt x="304" y="1"/>
                </a:lnTo>
                <a:lnTo>
                  <a:pt x="310" y="23"/>
                </a:lnTo>
                <a:lnTo>
                  <a:pt x="302" y="45"/>
                </a:lnTo>
                <a:lnTo>
                  <a:pt x="290" y="76"/>
                </a:lnTo>
                <a:lnTo>
                  <a:pt x="276" y="113"/>
                </a:lnTo>
                <a:lnTo>
                  <a:pt x="261" y="152"/>
                </a:lnTo>
                <a:lnTo>
                  <a:pt x="245" y="191"/>
                </a:lnTo>
                <a:lnTo>
                  <a:pt x="230" y="227"/>
                </a:lnTo>
                <a:lnTo>
                  <a:pt x="218" y="254"/>
                </a:lnTo>
                <a:lnTo>
                  <a:pt x="209" y="271"/>
                </a:lnTo>
                <a:lnTo>
                  <a:pt x="201" y="281"/>
                </a:lnTo>
                <a:lnTo>
                  <a:pt x="190" y="288"/>
                </a:lnTo>
                <a:lnTo>
                  <a:pt x="151" y="295"/>
                </a:lnTo>
                <a:lnTo>
                  <a:pt x="113" y="287"/>
                </a:lnTo>
                <a:lnTo>
                  <a:pt x="83" y="247"/>
                </a:lnTo>
                <a:lnTo>
                  <a:pt x="66" y="212"/>
                </a:lnTo>
                <a:lnTo>
                  <a:pt x="48" y="170"/>
                </a:lnTo>
                <a:lnTo>
                  <a:pt x="30" y="129"/>
                </a:lnTo>
                <a:lnTo>
                  <a:pt x="16" y="88"/>
                </a:lnTo>
                <a:lnTo>
                  <a:pt x="0" y="34"/>
                </a:lnTo>
                <a:lnTo>
                  <a:pt x="1" y="21"/>
                </a:lnTo>
                <a:lnTo>
                  <a:pt x="11" y="13"/>
                </a:lnTo>
                <a:lnTo>
                  <a:pt x="30" y="26"/>
                </a:lnTo>
                <a:lnTo>
                  <a:pt x="46" y="62"/>
                </a:lnTo>
                <a:lnTo>
                  <a:pt x="54" y="82"/>
                </a:lnTo>
                <a:lnTo>
                  <a:pt x="62" y="100"/>
                </a:lnTo>
                <a:lnTo>
                  <a:pt x="72" y="118"/>
                </a:lnTo>
                <a:lnTo>
                  <a:pt x="82" y="133"/>
                </a:lnTo>
                <a:lnTo>
                  <a:pt x="92" y="149"/>
                </a:lnTo>
                <a:lnTo>
                  <a:pt x="101" y="165"/>
                </a:lnTo>
                <a:lnTo>
                  <a:pt x="122" y="197"/>
                </a:lnTo>
                <a:lnTo>
                  <a:pt x="142" y="230"/>
                </a:lnTo>
                <a:lnTo>
                  <a:pt x="142" y="230"/>
                </a:lnTo>
                <a:close/>
              </a:path>
            </a:pathLst>
          </a:custGeom>
          <a:solidFill>
            <a:srgbClr val="ff96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88000" y="4121280"/>
            <a:ext cx="279360" cy="234720"/>
          </a:xfrm>
          <a:custGeom>
            <a:avLst/>
            <a:gdLst/>
            <a:ahLst/>
            <a:rect l="l" t="t" r="r" b="b"/>
            <a:pathLst>
              <a:path w="352" h="295">
                <a:moveTo>
                  <a:pt x="201" y="228"/>
                </a:moveTo>
                <a:lnTo>
                  <a:pt x="209" y="197"/>
                </a:lnTo>
                <a:lnTo>
                  <a:pt x="217" y="168"/>
                </a:lnTo>
                <a:lnTo>
                  <a:pt x="230" y="138"/>
                </a:lnTo>
                <a:lnTo>
                  <a:pt x="242" y="110"/>
                </a:lnTo>
                <a:lnTo>
                  <a:pt x="258" y="83"/>
                </a:lnTo>
                <a:lnTo>
                  <a:pt x="275" y="56"/>
                </a:lnTo>
                <a:lnTo>
                  <a:pt x="293" y="32"/>
                </a:lnTo>
                <a:lnTo>
                  <a:pt x="313" y="8"/>
                </a:lnTo>
                <a:lnTo>
                  <a:pt x="329" y="0"/>
                </a:lnTo>
                <a:lnTo>
                  <a:pt x="344" y="5"/>
                </a:lnTo>
                <a:lnTo>
                  <a:pt x="352" y="17"/>
                </a:lnTo>
                <a:lnTo>
                  <a:pt x="347" y="35"/>
                </a:lnTo>
                <a:lnTo>
                  <a:pt x="326" y="70"/>
                </a:lnTo>
                <a:lnTo>
                  <a:pt x="310" y="98"/>
                </a:lnTo>
                <a:lnTo>
                  <a:pt x="292" y="147"/>
                </a:lnTo>
                <a:lnTo>
                  <a:pt x="269" y="264"/>
                </a:lnTo>
                <a:lnTo>
                  <a:pt x="259" y="287"/>
                </a:lnTo>
                <a:lnTo>
                  <a:pt x="237" y="295"/>
                </a:lnTo>
                <a:lnTo>
                  <a:pt x="217" y="293"/>
                </a:lnTo>
                <a:lnTo>
                  <a:pt x="199" y="280"/>
                </a:lnTo>
                <a:lnTo>
                  <a:pt x="183" y="266"/>
                </a:lnTo>
                <a:lnTo>
                  <a:pt x="166" y="252"/>
                </a:lnTo>
                <a:lnTo>
                  <a:pt x="127" y="236"/>
                </a:lnTo>
                <a:lnTo>
                  <a:pt x="86" y="224"/>
                </a:lnTo>
                <a:lnTo>
                  <a:pt x="10" y="192"/>
                </a:lnTo>
                <a:lnTo>
                  <a:pt x="0" y="182"/>
                </a:lnTo>
                <a:lnTo>
                  <a:pt x="2" y="170"/>
                </a:lnTo>
                <a:lnTo>
                  <a:pt x="10" y="163"/>
                </a:lnTo>
                <a:lnTo>
                  <a:pt x="24" y="163"/>
                </a:lnTo>
                <a:lnTo>
                  <a:pt x="60" y="176"/>
                </a:lnTo>
                <a:lnTo>
                  <a:pt x="87" y="187"/>
                </a:lnTo>
                <a:lnTo>
                  <a:pt x="117" y="198"/>
                </a:lnTo>
                <a:lnTo>
                  <a:pt x="171" y="219"/>
                </a:lnTo>
                <a:lnTo>
                  <a:pt x="201" y="228"/>
                </a:lnTo>
                <a:lnTo>
                  <a:pt x="201" y="228"/>
                </a:lnTo>
                <a:close/>
              </a:path>
            </a:pathLst>
          </a:custGeom>
          <a:solidFill>
            <a:srgbClr val="ff96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00680" y="4370400"/>
            <a:ext cx="304920" cy="233280"/>
          </a:xfrm>
          <a:custGeom>
            <a:avLst/>
            <a:gdLst/>
            <a:ahLst/>
            <a:rect l="l" t="t" r="r" b="b"/>
            <a:pathLst>
              <a:path w="383" h="295">
                <a:moveTo>
                  <a:pt x="142" y="215"/>
                </a:moveTo>
                <a:lnTo>
                  <a:pt x="160" y="190"/>
                </a:lnTo>
                <a:lnTo>
                  <a:pt x="179" y="166"/>
                </a:lnTo>
                <a:lnTo>
                  <a:pt x="197" y="143"/>
                </a:lnTo>
                <a:lnTo>
                  <a:pt x="217" y="119"/>
                </a:lnTo>
                <a:lnTo>
                  <a:pt x="231" y="102"/>
                </a:lnTo>
                <a:lnTo>
                  <a:pt x="248" y="86"/>
                </a:lnTo>
                <a:lnTo>
                  <a:pt x="266" y="70"/>
                </a:lnTo>
                <a:lnTo>
                  <a:pt x="285" y="56"/>
                </a:lnTo>
                <a:lnTo>
                  <a:pt x="304" y="41"/>
                </a:lnTo>
                <a:lnTo>
                  <a:pt x="323" y="27"/>
                </a:lnTo>
                <a:lnTo>
                  <a:pt x="342" y="14"/>
                </a:lnTo>
                <a:lnTo>
                  <a:pt x="360" y="0"/>
                </a:lnTo>
                <a:lnTo>
                  <a:pt x="383" y="2"/>
                </a:lnTo>
                <a:lnTo>
                  <a:pt x="382" y="25"/>
                </a:lnTo>
                <a:lnTo>
                  <a:pt x="356" y="56"/>
                </a:lnTo>
                <a:lnTo>
                  <a:pt x="332" y="86"/>
                </a:lnTo>
                <a:lnTo>
                  <a:pt x="308" y="118"/>
                </a:lnTo>
                <a:lnTo>
                  <a:pt x="285" y="150"/>
                </a:lnTo>
                <a:lnTo>
                  <a:pt x="274" y="166"/>
                </a:lnTo>
                <a:lnTo>
                  <a:pt x="262" y="182"/>
                </a:lnTo>
                <a:lnTo>
                  <a:pt x="251" y="199"/>
                </a:lnTo>
                <a:lnTo>
                  <a:pt x="239" y="215"/>
                </a:lnTo>
                <a:lnTo>
                  <a:pt x="228" y="231"/>
                </a:lnTo>
                <a:lnTo>
                  <a:pt x="215" y="247"/>
                </a:lnTo>
                <a:lnTo>
                  <a:pt x="192" y="279"/>
                </a:lnTo>
                <a:lnTo>
                  <a:pt x="176" y="291"/>
                </a:lnTo>
                <a:lnTo>
                  <a:pt x="155" y="295"/>
                </a:lnTo>
                <a:lnTo>
                  <a:pt x="80" y="268"/>
                </a:lnTo>
                <a:lnTo>
                  <a:pt x="44" y="247"/>
                </a:lnTo>
                <a:lnTo>
                  <a:pt x="9" y="227"/>
                </a:lnTo>
                <a:lnTo>
                  <a:pt x="0" y="217"/>
                </a:lnTo>
                <a:lnTo>
                  <a:pt x="0" y="206"/>
                </a:lnTo>
                <a:lnTo>
                  <a:pt x="7" y="198"/>
                </a:lnTo>
                <a:lnTo>
                  <a:pt x="20" y="197"/>
                </a:lnTo>
                <a:lnTo>
                  <a:pt x="80" y="209"/>
                </a:lnTo>
                <a:lnTo>
                  <a:pt x="142" y="215"/>
                </a:lnTo>
                <a:lnTo>
                  <a:pt x="142" y="215"/>
                </a:lnTo>
                <a:close/>
              </a:path>
            </a:pathLst>
          </a:custGeom>
          <a:solidFill>
            <a:srgbClr val="ff96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27800" y="3668760"/>
            <a:ext cx="728640" cy="1073160"/>
          </a:xfrm>
          <a:custGeom>
            <a:avLst/>
            <a:gdLst/>
            <a:ahLst/>
            <a:rect l="l" t="t" r="r" b="b"/>
            <a:pathLst>
              <a:path w="917" h="1350">
                <a:moveTo>
                  <a:pt x="67" y="1058"/>
                </a:moveTo>
                <a:lnTo>
                  <a:pt x="89" y="1042"/>
                </a:lnTo>
                <a:lnTo>
                  <a:pt x="113" y="1028"/>
                </a:lnTo>
                <a:lnTo>
                  <a:pt x="138" y="1015"/>
                </a:lnTo>
                <a:lnTo>
                  <a:pt x="163" y="1002"/>
                </a:lnTo>
                <a:lnTo>
                  <a:pt x="141" y="982"/>
                </a:lnTo>
                <a:lnTo>
                  <a:pt x="118" y="953"/>
                </a:lnTo>
                <a:lnTo>
                  <a:pt x="96" y="920"/>
                </a:lnTo>
                <a:lnTo>
                  <a:pt x="85" y="902"/>
                </a:lnTo>
                <a:lnTo>
                  <a:pt x="74" y="883"/>
                </a:lnTo>
                <a:lnTo>
                  <a:pt x="53" y="843"/>
                </a:lnTo>
                <a:lnTo>
                  <a:pt x="36" y="803"/>
                </a:lnTo>
                <a:lnTo>
                  <a:pt x="21" y="761"/>
                </a:lnTo>
                <a:lnTo>
                  <a:pt x="9" y="720"/>
                </a:lnTo>
                <a:lnTo>
                  <a:pt x="0" y="646"/>
                </a:lnTo>
                <a:lnTo>
                  <a:pt x="5" y="615"/>
                </a:lnTo>
                <a:lnTo>
                  <a:pt x="15" y="591"/>
                </a:lnTo>
                <a:lnTo>
                  <a:pt x="24" y="581"/>
                </a:lnTo>
                <a:lnTo>
                  <a:pt x="33" y="573"/>
                </a:lnTo>
                <a:lnTo>
                  <a:pt x="59" y="564"/>
                </a:lnTo>
                <a:lnTo>
                  <a:pt x="138" y="575"/>
                </a:lnTo>
                <a:lnTo>
                  <a:pt x="123" y="545"/>
                </a:lnTo>
                <a:lnTo>
                  <a:pt x="109" y="512"/>
                </a:lnTo>
                <a:lnTo>
                  <a:pt x="96" y="477"/>
                </a:lnTo>
                <a:lnTo>
                  <a:pt x="85" y="440"/>
                </a:lnTo>
                <a:lnTo>
                  <a:pt x="58" y="298"/>
                </a:lnTo>
                <a:lnTo>
                  <a:pt x="60" y="239"/>
                </a:lnTo>
                <a:lnTo>
                  <a:pt x="67" y="215"/>
                </a:lnTo>
                <a:lnTo>
                  <a:pt x="76" y="197"/>
                </a:lnTo>
                <a:lnTo>
                  <a:pt x="90" y="184"/>
                </a:lnTo>
                <a:lnTo>
                  <a:pt x="108" y="177"/>
                </a:lnTo>
                <a:lnTo>
                  <a:pt x="157" y="187"/>
                </a:lnTo>
                <a:lnTo>
                  <a:pt x="167" y="150"/>
                </a:lnTo>
                <a:lnTo>
                  <a:pt x="181" y="117"/>
                </a:lnTo>
                <a:lnTo>
                  <a:pt x="195" y="87"/>
                </a:lnTo>
                <a:lnTo>
                  <a:pt x="214" y="61"/>
                </a:lnTo>
                <a:lnTo>
                  <a:pt x="222" y="50"/>
                </a:lnTo>
                <a:lnTo>
                  <a:pt x="233" y="39"/>
                </a:lnTo>
                <a:lnTo>
                  <a:pt x="254" y="22"/>
                </a:lnTo>
                <a:lnTo>
                  <a:pt x="276" y="8"/>
                </a:lnTo>
                <a:lnTo>
                  <a:pt x="299" y="1"/>
                </a:lnTo>
                <a:lnTo>
                  <a:pt x="346" y="0"/>
                </a:lnTo>
                <a:lnTo>
                  <a:pt x="393" y="22"/>
                </a:lnTo>
                <a:lnTo>
                  <a:pt x="433" y="67"/>
                </a:lnTo>
                <a:lnTo>
                  <a:pt x="451" y="100"/>
                </a:lnTo>
                <a:lnTo>
                  <a:pt x="466" y="141"/>
                </a:lnTo>
                <a:lnTo>
                  <a:pt x="491" y="124"/>
                </a:lnTo>
                <a:lnTo>
                  <a:pt x="513" y="110"/>
                </a:lnTo>
                <a:lnTo>
                  <a:pt x="552" y="90"/>
                </a:lnTo>
                <a:lnTo>
                  <a:pt x="584" y="81"/>
                </a:lnTo>
                <a:lnTo>
                  <a:pt x="608" y="81"/>
                </a:lnTo>
                <a:lnTo>
                  <a:pt x="641" y="103"/>
                </a:lnTo>
                <a:lnTo>
                  <a:pt x="654" y="148"/>
                </a:lnTo>
                <a:lnTo>
                  <a:pt x="650" y="209"/>
                </a:lnTo>
                <a:lnTo>
                  <a:pt x="643" y="244"/>
                </a:lnTo>
                <a:lnTo>
                  <a:pt x="634" y="278"/>
                </a:lnTo>
                <a:lnTo>
                  <a:pt x="622" y="312"/>
                </a:lnTo>
                <a:lnTo>
                  <a:pt x="610" y="344"/>
                </a:lnTo>
                <a:lnTo>
                  <a:pt x="596" y="375"/>
                </a:lnTo>
                <a:lnTo>
                  <a:pt x="583" y="402"/>
                </a:lnTo>
                <a:lnTo>
                  <a:pt x="622" y="391"/>
                </a:lnTo>
                <a:lnTo>
                  <a:pt x="656" y="387"/>
                </a:lnTo>
                <a:lnTo>
                  <a:pt x="709" y="397"/>
                </a:lnTo>
                <a:lnTo>
                  <a:pt x="744" y="427"/>
                </a:lnTo>
                <a:lnTo>
                  <a:pt x="764" y="473"/>
                </a:lnTo>
                <a:lnTo>
                  <a:pt x="770" y="528"/>
                </a:lnTo>
                <a:lnTo>
                  <a:pt x="766" y="588"/>
                </a:lnTo>
                <a:lnTo>
                  <a:pt x="753" y="649"/>
                </a:lnTo>
                <a:lnTo>
                  <a:pt x="743" y="678"/>
                </a:lnTo>
                <a:lnTo>
                  <a:pt x="733" y="705"/>
                </a:lnTo>
                <a:lnTo>
                  <a:pt x="795" y="689"/>
                </a:lnTo>
                <a:lnTo>
                  <a:pt x="842" y="687"/>
                </a:lnTo>
                <a:lnTo>
                  <a:pt x="877" y="698"/>
                </a:lnTo>
                <a:lnTo>
                  <a:pt x="900" y="719"/>
                </a:lnTo>
                <a:lnTo>
                  <a:pt x="914" y="750"/>
                </a:lnTo>
                <a:lnTo>
                  <a:pt x="917" y="789"/>
                </a:lnTo>
                <a:lnTo>
                  <a:pt x="914" y="833"/>
                </a:lnTo>
                <a:lnTo>
                  <a:pt x="902" y="882"/>
                </a:lnTo>
                <a:lnTo>
                  <a:pt x="888" y="934"/>
                </a:lnTo>
                <a:lnTo>
                  <a:pt x="878" y="959"/>
                </a:lnTo>
                <a:lnTo>
                  <a:pt x="868" y="986"/>
                </a:lnTo>
                <a:lnTo>
                  <a:pt x="858" y="1012"/>
                </a:lnTo>
                <a:lnTo>
                  <a:pt x="847" y="1038"/>
                </a:lnTo>
                <a:lnTo>
                  <a:pt x="835" y="1064"/>
                </a:lnTo>
                <a:lnTo>
                  <a:pt x="824" y="1088"/>
                </a:lnTo>
                <a:lnTo>
                  <a:pt x="812" y="1111"/>
                </a:lnTo>
                <a:lnTo>
                  <a:pt x="801" y="1134"/>
                </a:lnTo>
                <a:lnTo>
                  <a:pt x="790" y="1156"/>
                </a:lnTo>
                <a:lnTo>
                  <a:pt x="779" y="1174"/>
                </a:lnTo>
                <a:lnTo>
                  <a:pt x="759" y="1208"/>
                </a:lnTo>
                <a:lnTo>
                  <a:pt x="744" y="1233"/>
                </a:lnTo>
                <a:lnTo>
                  <a:pt x="731" y="1246"/>
                </a:lnTo>
                <a:lnTo>
                  <a:pt x="716" y="1252"/>
                </a:lnTo>
                <a:lnTo>
                  <a:pt x="686" y="1248"/>
                </a:lnTo>
                <a:lnTo>
                  <a:pt x="667" y="1224"/>
                </a:lnTo>
                <a:lnTo>
                  <a:pt x="671" y="1189"/>
                </a:lnTo>
                <a:lnTo>
                  <a:pt x="683" y="1169"/>
                </a:lnTo>
                <a:lnTo>
                  <a:pt x="697" y="1146"/>
                </a:lnTo>
                <a:lnTo>
                  <a:pt x="713" y="1122"/>
                </a:lnTo>
                <a:lnTo>
                  <a:pt x="731" y="1097"/>
                </a:lnTo>
                <a:lnTo>
                  <a:pt x="749" y="1071"/>
                </a:lnTo>
                <a:lnTo>
                  <a:pt x="766" y="1043"/>
                </a:lnTo>
                <a:lnTo>
                  <a:pt x="785" y="1016"/>
                </a:lnTo>
                <a:lnTo>
                  <a:pt x="802" y="986"/>
                </a:lnTo>
                <a:lnTo>
                  <a:pt x="818" y="958"/>
                </a:lnTo>
                <a:lnTo>
                  <a:pt x="831" y="929"/>
                </a:lnTo>
                <a:lnTo>
                  <a:pt x="850" y="871"/>
                </a:lnTo>
                <a:lnTo>
                  <a:pt x="855" y="816"/>
                </a:lnTo>
                <a:lnTo>
                  <a:pt x="850" y="789"/>
                </a:lnTo>
                <a:lnTo>
                  <a:pt x="839" y="763"/>
                </a:lnTo>
                <a:lnTo>
                  <a:pt x="824" y="751"/>
                </a:lnTo>
                <a:lnTo>
                  <a:pt x="803" y="752"/>
                </a:lnTo>
                <a:lnTo>
                  <a:pt x="748" y="778"/>
                </a:lnTo>
                <a:lnTo>
                  <a:pt x="720" y="798"/>
                </a:lnTo>
                <a:lnTo>
                  <a:pt x="693" y="817"/>
                </a:lnTo>
                <a:lnTo>
                  <a:pt x="671" y="832"/>
                </a:lnTo>
                <a:lnTo>
                  <a:pt x="656" y="841"/>
                </a:lnTo>
                <a:lnTo>
                  <a:pt x="618" y="848"/>
                </a:lnTo>
                <a:lnTo>
                  <a:pt x="605" y="828"/>
                </a:lnTo>
                <a:lnTo>
                  <a:pt x="608" y="788"/>
                </a:lnTo>
                <a:lnTo>
                  <a:pt x="616" y="762"/>
                </a:lnTo>
                <a:lnTo>
                  <a:pt x="625" y="734"/>
                </a:lnTo>
                <a:lnTo>
                  <a:pt x="637" y="705"/>
                </a:lnTo>
                <a:lnTo>
                  <a:pt x="649" y="674"/>
                </a:lnTo>
                <a:lnTo>
                  <a:pt x="661" y="643"/>
                </a:lnTo>
                <a:lnTo>
                  <a:pt x="673" y="615"/>
                </a:lnTo>
                <a:lnTo>
                  <a:pt x="692" y="564"/>
                </a:lnTo>
                <a:lnTo>
                  <a:pt x="700" y="528"/>
                </a:lnTo>
                <a:lnTo>
                  <a:pt x="698" y="494"/>
                </a:lnTo>
                <a:lnTo>
                  <a:pt x="690" y="472"/>
                </a:lnTo>
                <a:lnTo>
                  <a:pt x="678" y="459"/>
                </a:lnTo>
                <a:lnTo>
                  <a:pt x="662" y="456"/>
                </a:lnTo>
                <a:lnTo>
                  <a:pt x="623" y="465"/>
                </a:lnTo>
                <a:lnTo>
                  <a:pt x="578" y="490"/>
                </a:lnTo>
                <a:lnTo>
                  <a:pt x="556" y="503"/>
                </a:lnTo>
                <a:lnTo>
                  <a:pt x="534" y="516"/>
                </a:lnTo>
                <a:lnTo>
                  <a:pt x="514" y="527"/>
                </a:lnTo>
                <a:lnTo>
                  <a:pt x="497" y="532"/>
                </a:lnTo>
                <a:lnTo>
                  <a:pt x="473" y="524"/>
                </a:lnTo>
                <a:lnTo>
                  <a:pt x="469" y="481"/>
                </a:lnTo>
                <a:lnTo>
                  <a:pt x="478" y="441"/>
                </a:lnTo>
                <a:lnTo>
                  <a:pt x="494" y="402"/>
                </a:lnTo>
                <a:lnTo>
                  <a:pt x="504" y="382"/>
                </a:lnTo>
                <a:lnTo>
                  <a:pt x="514" y="363"/>
                </a:lnTo>
                <a:lnTo>
                  <a:pt x="535" y="323"/>
                </a:lnTo>
                <a:lnTo>
                  <a:pt x="556" y="285"/>
                </a:lnTo>
                <a:lnTo>
                  <a:pt x="572" y="246"/>
                </a:lnTo>
                <a:lnTo>
                  <a:pt x="581" y="165"/>
                </a:lnTo>
                <a:lnTo>
                  <a:pt x="538" y="185"/>
                </a:lnTo>
                <a:lnTo>
                  <a:pt x="510" y="208"/>
                </a:lnTo>
                <a:lnTo>
                  <a:pt x="487" y="236"/>
                </a:lnTo>
                <a:lnTo>
                  <a:pt x="473" y="252"/>
                </a:lnTo>
                <a:lnTo>
                  <a:pt x="460" y="272"/>
                </a:lnTo>
                <a:lnTo>
                  <a:pt x="442" y="291"/>
                </a:lnTo>
                <a:lnTo>
                  <a:pt x="428" y="301"/>
                </a:lnTo>
                <a:lnTo>
                  <a:pt x="411" y="295"/>
                </a:lnTo>
                <a:lnTo>
                  <a:pt x="396" y="214"/>
                </a:lnTo>
                <a:lnTo>
                  <a:pt x="389" y="160"/>
                </a:lnTo>
                <a:lnTo>
                  <a:pt x="383" y="133"/>
                </a:lnTo>
                <a:lnTo>
                  <a:pt x="374" y="110"/>
                </a:lnTo>
                <a:lnTo>
                  <a:pt x="362" y="89"/>
                </a:lnTo>
                <a:lnTo>
                  <a:pt x="346" y="74"/>
                </a:lnTo>
                <a:lnTo>
                  <a:pt x="325" y="65"/>
                </a:lnTo>
                <a:lnTo>
                  <a:pt x="298" y="63"/>
                </a:lnTo>
                <a:lnTo>
                  <a:pt x="266" y="79"/>
                </a:lnTo>
                <a:lnTo>
                  <a:pt x="247" y="116"/>
                </a:lnTo>
                <a:lnTo>
                  <a:pt x="230" y="213"/>
                </a:lnTo>
                <a:lnTo>
                  <a:pt x="221" y="256"/>
                </a:lnTo>
                <a:lnTo>
                  <a:pt x="215" y="272"/>
                </a:lnTo>
                <a:lnTo>
                  <a:pt x="206" y="283"/>
                </a:lnTo>
                <a:lnTo>
                  <a:pt x="181" y="285"/>
                </a:lnTo>
                <a:lnTo>
                  <a:pt x="136" y="255"/>
                </a:lnTo>
                <a:lnTo>
                  <a:pt x="123" y="306"/>
                </a:lnTo>
                <a:lnTo>
                  <a:pt x="132" y="374"/>
                </a:lnTo>
                <a:lnTo>
                  <a:pt x="140" y="410"/>
                </a:lnTo>
                <a:lnTo>
                  <a:pt x="152" y="450"/>
                </a:lnTo>
                <a:lnTo>
                  <a:pt x="165" y="489"/>
                </a:lnTo>
                <a:lnTo>
                  <a:pt x="178" y="527"/>
                </a:lnTo>
                <a:lnTo>
                  <a:pt x="190" y="562"/>
                </a:lnTo>
                <a:lnTo>
                  <a:pt x="200" y="595"/>
                </a:lnTo>
                <a:lnTo>
                  <a:pt x="210" y="649"/>
                </a:lnTo>
                <a:lnTo>
                  <a:pt x="208" y="668"/>
                </a:lnTo>
                <a:lnTo>
                  <a:pt x="200" y="679"/>
                </a:lnTo>
                <a:lnTo>
                  <a:pt x="162" y="678"/>
                </a:lnTo>
                <a:lnTo>
                  <a:pt x="122" y="657"/>
                </a:lnTo>
                <a:lnTo>
                  <a:pt x="102" y="646"/>
                </a:lnTo>
                <a:lnTo>
                  <a:pt x="80" y="640"/>
                </a:lnTo>
                <a:lnTo>
                  <a:pt x="67" y="669"/>
                </a:lnTo>
                <a:lnTo>
                  <a:pt x="62" y="700"/>
                </a:lnTo>
                <a:lnTo>
                  <a:pt x="67" y="729"/>
                </a:lnTo>
                <a:lnTo>
                  <a:pt x="76" y="760"/>
                </a:lnTo>
                <a:lnTo>
                  <a:pt x="94" y="789"/>
                </a:lnTo>
                <a:lnTo>
                  <a:pt x="103" y="804"/>
                </a:lnTo>
                <a:lnTo>
                  <a:pt x="114" y="819"/>
                </a:lnTo>
                <a:lnTo>
                  <a:pt x="138" y="848"/>
                </a:lnTo>
                <a:lnTo>
                  <a:pt x="150" y="861"/>
                </a:lnTo>
                <a:lnTo>
                  <a:pt x="162" y="875"/>
                </a:lnTo>
                <a:lnTo>
                  <a:pt x="176" y="888"/>
                </a:lnTo>
                <a:lnTo>
                  <a:pt x="188" y="902"/>
                </a:lnTo>
                <a:lnTo>
                  <a:pt x="200" y="915"/>
                </a:lnTo>
                <a:lnTo>
                  <a:pt x="212" y="928"/>
                </a:lnTo>
                <a:lnTo>
                  <a:pt x="223" y="940"/>
                </a:lnTo>
                <a:lnTo>
                  <a:pt x="234" y="951"/>
                </a:lnTo>
                <a:lnTo>
                  <a:pt x="253" y="973"/>
                </a:lnTo>
                <a:lnTo>
                  <a:pt x="274" y="1011"/>
                </a:lnTo>
                <a:lnTo>
                  <a:pt x="274" y="1027"/>
                </a:lnTo>
                <a:lnTo>
                  <a:pt x="264" y="1039"/>
                </a:lnTo>
                <a:lnTo>
                  <a:pt x="248" y="1050"/>
                </a:lnTo>
                <a:lnTo>
                  <a:pt x="231" y="1058"/>
                </a:lnTo>
                <a:lnTo>
                  <a:pt x="194" y="1069"/>
                </a:lnTo>
                <a:lnTo>
                  <a:pt x="123" y="1098"/>
                </a:lnTo>
                <a:lnTo>
                  <a:pt x="125" y="1132"/>
                </a:lnTo>
                <a:lnTo>
                  <a:pt x="135" y="1151"/>
                </a:lnTo>
                <a:lnTo>
                  <a:pt x="152" y="1168"/>
                </a:lnTo>
                <a:lnTo>
                  <a:pt x="173" y="1185"/>
                </a:lnTo>
                <a:lnTo>
                  <a:pt x="196" y="1202"/>
                </a:lnTo>
                <a:lnTo>
                  <a:pt x="225" y="1218"/>
                </a:lnTo>
                <a:lnTo>
                  <a:pt x="254" y="1234"/>
                </a:lnTo>
                <a:lnTo>
                  <a:pt x="285" y="1249"/>
                </a:lnTo>
                <a:lnTo>
                  <a:pt x="315" y="1262"/>
                </a:lnTo>
                <a:lnTo>
                  <a:pt x="346" y="1273"/>
                </a:lnTo>
                <a:lnTo>
                  <a:pt x="375" y="1283"/>
                </a:lnTo>
                <a:lnTo>
                  <a:pt x="427" y="1298"/>
                </a:lnTo>
                <a:lnTo>
                  <a:pt x="465" y="1303"/>
                </a:lnTo>
                <a:lnTo>
                  <a:pt x="485" y="1315"/>
                </a:lnTo>
                <a:lnTo>
                  <a:pt x="483" y="1326"/>
                </a:lnTo>
                <a:lnTo>
                  <a:pt x="472" y="1335"/>
                </a:lnTo>
                <a:lnTo>
                  <a:pt x="442" y="1346"/>
                </a:lnTo>
                <a:lnTo>
                  <a:pt x="409" y="1350"/>
                </a:lnTo>
                <a:lnTo>
                  <a:pt x="336" y="1348"/>
                </a:lnTo>
                <a:lnTo>
                  <a:pt x="259" y="1328"/>
                </a:lnTo>
                <a:lnTo>
                  <a:pt x="222" y="1314"/>
                </a:lnTo>
                <a:lnTo>
                  <a:pt x="187" y="1295"/>
                </a:lnTo>
                <a:lnTo>
                  <a:pt x="154" y="1273"/>
                </a:lnTo>
                <a:lnTo>
                  <a:pt x="124" y="1249"/>
                </a:lnTo>
                <a:lnTo>
                  <a:pt x="111" y="1235"/>
                </a:lnTo>
                <a:lnTo>
                  <a:pt x="100" y="1222"/>
                </a:lnTo>
                <a:lnTo>
                  <a:pt x="79" y="1192"/>
                </a:lnTo>
                <a:lnTo>
                  <a:pt x="57" y="1127"/>
                </a:lnTo>
                <a:lnTo>
                  <a:pt x="57" y="1111"/>
                </a:lnTo>
                <a:lnTo>
                  <a:pt x="58" y="1093"/>
                </a:lnTo>
                <a:lnTo>
                  <a:pt x="67" y="1058"/>
                </a:lnTo>
                <a:lnTo>
                  <a:pt x="67" y="10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803840"/>
            <a:ext cx="1027080" cy="819000"/>
          </a:xfrm>
          <a:custGeom>
            <a:avLst/>
            <a:gdLst/>
            <a:ahLst/>
            <a:rect l="l" t="t" r="r" b="b"/>
            <a:pathLst>
              <a:path w="1294" h="1032">
                <a:moveTo>
                  <a:pt x="802" y="55"/>
                </a:moveTo>
                <a:lnTo>
                  <a:pt x="799" y="111"/>
                </a:lnTo>
                <a:lnTo>
                  <a:pt x="802" y="168"/>
                </a:lnTo>
                <a:lnTo>
                  <a:pt x="737" y="153"/>
                </a:lnTo>
                <a:lnTo>
                  <a:pt x="655" y="149"/>
                </a:lnTo>
                <a:lnTo>
                  <a:pt x="480" y="175"/>
                </a:lnTo>
                <a:lnTo>
                  <a:pt x="413" y="205"/>
                </a:lnTo>
                <a:lnTo>
                  <a:pt x="371" y="245"/>
                </a:lnTo>
                <a:lnTo>
                  <a:pt x="365" y="270"/>
                </a:lnTo>
                <a:lnTo>
                  <a:pt x="370" y="297"/>
                </a:lnTo>
                <a:lnTo>
                  <a:pt x="378" y="311"/>
                </a:lnTo>
                <a:lnTo>
                  <a:pt x="387" y="326"/>
                </a:lnTo>
                <a:lnTo>
                  <a:pt x="402" y="342"/>
                </a:lnTo>
                <a:lnTo>
                  <a:pt x="419" y="359"/>
                </a:lnTo>
                <a:lnTo>
                  <a:pt x="276" y="380"/>
                </a:lnTo>
                <a:lnTo>
                  <a:pt x="203" y="402"/>
                </a:lnTo>
                <a:lnTo>
                  <a:pt x="140" y="429"/>
                </a:lnTo>
                <a:lnTo>
                  <a:pt x="113" y="444"/>
                </a:lnTo>
                <a:lnTo>
                  <a:pt x="89" y="460"/>
                </a:lnTo>
                <a:lnTo>
                  <a:pt x="61" y="494"/>
                </a:lnTo>
                <a:lnTo>
                  <a:pt x="61" y="532"/>
                </a:lnTo>
                <a:lnTo>
                  <a:pt x="72" y="550"/>
                </a:lnTo>
                <a:lnTo>
                  <a:pt x="82" y="560"/>
                </a:lnTo>
                <a:lnTo>
                  <a:pt x="94" y="570"/>
                </a:lnTo>
                <a:lnTo>
                  <a:pt x="80" y="583"/>
                </a:lnTo>
                <a:lnTo>
                  <a:pt x="67" y="597"/>
                </a:lnTo>
                <a:lnTo>
                  <a:pt x="44" y="625"/>
                </a:lnTo>
                <a:lnTo>
                  <a:pt x="12" y="681"/>
                </a:lnTo>
                <a:lnTo>
                  <a:pt x="0" y="737"/>
                </a:lnTo>
                <a:lnTo>
                  <a:pt x="4" y="786"/>
                </a:lnTo>
                <a:lnTo>
                  <a:pt x="12" y="809"/>
                </a:lnTo>
                <a:lnTo>
                  <a:pt x="26" y="827"/>
                </a:lnTo>
                <a:lnTo>
                  <a:pt x="45" y="843"/>
                </a:lnTo>
                <a:lnTo>
                  <a:pt x="67" y="856"/>
                </a:lnTo>
                <a:lnTo>
                  <a:pt x="96" y="864"/>
                </a:lnTo>
                <a:lnTo>
                  <a:pt x="129" y="869"/>
                </a:lnTo>
                <a:lnTo>
                  <a:pt x="207" y="862"/>
                </a:lnTo>
                <a:lnTo>
                  <a:pt x="205" y="917"/>
                </a:lnTo>
                <a:lnTo>
                  <a:pt x="207" y="961"/>
                </a:lnTo>
                <a:lnTo>
                  <a:pt x="214" y="993"/>
                </a:lnTo>
                <a:lnTo>
                  <a:pt x="227" y="1015"/>
                </a:lnTo>
                <a:lnTo>
                  <a:pt x="243" y="1027"/>
                </a:lnTo>
                <a:lnTo>
                  <a:pt x="262" y="1032"/>
                </a:lnTo>
                <a:lnTo>
                  <a:pt x="309" y="1020"/>
                </a:lnTo>
                <a:lnTo>
                  <a:pt x="333" y="1005"/>
                </a:lnTo>
                <a:lnTo>
                  <a:pt x="359" y="985"/>
                </a:lnTo>
                <a:lnTo>
                  <a:pt x="385" y="962"/>
                </a:lnTo>
                <a:lnTo>
                  <a:pt x="398" y="950"/>
                </a:lnTo>
                <a:lnTo>
                  <a:pt x="411" y="938"/>
                </a:lnTo>
                <a:lnTo>
                  <a:pt x="423" y="924"/>
                </a:lnTo>
                <a:lnTo>
                  <a:pt x="434" y="911"/>
                </a:lnTo>
                <a:lnTo>
                  <a:pt x="456" y="884"/>
                </a:lnTo>
                <a:lnTo>
                  <a:pt x="476" y="857"/>
                </a:lnTo>
                <a:lnTo>
                  <a:pt x="491" y="831"/>
                </a:lnTo>
                <a:lnTo>
                  <a:pt x="503" y="871"/>
                </a:lnTo>
                <a:lnTo>
                  <a:pt x="516" y="902"/>
                </a:lnTo>
                <a:lnTo>
                  <a:pt x="532" y="927"/>
                </a:lnTo>
                <a:lnTo>
                  <a:pt x="550" y="944"/>
                </a:lnTo>
                <a:lnTo>
                  <a:pt x="572" y="955"/>
                </a:lnTo>
                <a:lnTo>
                  <a:pt x="594" y="958"/>
                </a:lnTo>
                <a:lnTo>
                  <a:pt x="643" y="954"/>
                </a:lnTo>
                <a:lnTo>
                  <a:pt x="695" y="932"/>
                </a:lnTo>
                <a:lnTo>
                  <a:pt x="721" y="916"/>
                </a:lnTo>
                <a:lnTo>
                  <a:pt x="745" y="897"/>
                </a:lnTo>
                <a:lnTo>
                  <a:pt x="770" y="876"/>
                </a:lnTo>
                <a:lnTo>
                  <a:pt x="792" y="856"/>
                </a:lnTo>
                <a:lnTo>
                  <a:pt x="811" y="832"/>
                </a:lnTo>
                <a:lnTo>
                  <a:pt x="830" y="810"/>
                </a:lnTo>
                <a:lnTo>
                  <a:pt x="837" y="843"/>
                </a:lnTo>
                <a:lnTo>
                  <a:pt x="847" y="871"/>
                </a:lnTo>
                <a:lnTo>
                  <a:pt x="857" y="895"/>
                </a:lnTo>
                <a:lnTo>
                  <a:pt x="869" y="914"/>
                </a:lnTo>
                <a:lnTo>
                  <a:pt x="881" y="929"/>
                </a:lnTo>
                <a:lnTo>
                  <a:pt x="895" y="939"/>
                </a:lnTo>
                <a:lnTo>
                  <a:pt x="925" y="949"/>
                </a:lnTo>
                <a:lnTo>
                  <a:pt x="958" y="944"/>
                </a:lnTo>
                <a:lnTo>
                  <a:pt x="994" y="928"/>
                </a:lnTo>
                <a:lnTo>
                  <a:pt x="1031" y="902"/>
                </a:lnTo>
                <a:lnTo>
                  <a:pt x="1049" y="886"/>
                </a:lnTo>
                <a:lnTo>
                  <a:pt x="1068" y="869"/>
                </a:lnTo>
                <a:lnTo>
                  <a:pt x="1086" y="849"/>
                </a:lnTo>
                <a:lnTo>
                  <a:pt x="1104" y="830"/>
                </a:lnTo>
                <a:lnTo>
                  <a:pt x="1123" y="809"/>
                </a:lnTo>
                <a:lnTo>
                  <a:pt x="1141" y="787"/>
                </a:lnTo>
                <a:lnTo>
                  <a:pt x="1158" y="765"/>
                </a:lnTo>
                <a:lnTo>
                  <a:pt x="1174" y="742"/>
                </a:lnTo>
                <a:lnTo>
                  <a:pt x="1191" y="719"/>
                </a:lnTo>
                <a:lnTo>
                  <a:pt x="1206" y="697"/>
                </a:lnTo>
                <a:lnTo>
                  <a:pt x="1221" y="675"/>
                </a:lnTo>
                <a:lnTo>
                  <a:pt x="1234" y="654"/>
                </a:lnTo>
                <a:lnTo>
                  <a:pt x="1247" y="634"/>
                </a:lnTo>
                <a:lnTo>
                  <a:pt x="1259" y="615"/>
                </a:lnTo>
                <a:lnTo>
                  <a:pt x="1269" y="598"/>
                </a:lnTo>
                <a:lnTo>
                  <a:pt x="1277" y="582"/>
                </a:lnTo>
                <a:lnTo>
                  <a:pt x="1292" y="556"/>
                </a:lnTo>
                <a:lnTo>
                  <a:pt x="1294" y="521"/>
                </a:lnTo>
                <a:lnTo>
                  <a:pt x="1287" y="509"/>
                </a:lnTo>
                <a:lnTo>
                  <a:pt x="1275" y="498"/>
                </a:lnTo>
                <a:lnTo>
                  <a:pt x="1245" y="494"/>
                </a:lnTo>
                <a:lnTo>
                  <a:pt x="1217" y="515"/>
                </a:lnTo>
                <a:lnTo>
                  <a:pt x="1193" y="559"/>
                </a:lnTo>
                <a:lnTo>
                  <a:pt x="1180" y="585"/>
                </a:lnTo>
                <a:lnTo>
                  <a:pt x="1167" y="612"/>
                </a:lnTo>
                <a:lnTo>
                  <a:pt x="1153" y="641"/>
                </a:lnTo>
                <a:lnTo>
                  <a:pt x="1139" y="670"/>
                </a:lnTo>
                <a:lnTo>
                  <a:pt x="1124" y="700"/>
                </a:lnTo>
                <a:lnTo>
                  <a:pt x="1108" y="729"/>
                </a:lnTo>
                <a:lnTo>
                  <a:pt x="1091" y="757"/>
                </a:lnTo>
                <a:lnTo>
                  <a:pt x="1072" y="783"/>
                </a:lnTo>
                <a:lnTo>
                  <a:pt x="1053" y="808"/>
                </a:lnTo>
                <a:lnTo>
                  <a:pt x="1043" y="819"/>
                </a:lnTo>
                <a:lnTo>
                  <a:pt x="1032" y="829"/>
                </a:lnTo>
                <a:lnTo>
                  <a:pt x="1010" y="846"/>
                </a:lnTo>
                <a:lnTo>
                  <a:pt x="985" y="860"/>
                </a:lnTo>
                <a:lnTo>
                  <a:pt x="960" y="869"/>
                </a:lnTo>
                <a:lnTo>
                  <a:pt x="933" y="873"/>
                </a:lnTo>
                <a:lnTo>
                  <a:pt x="916" y="867"/>
                </a:lnTo>
                <a:lnTo>
                  <a:pt x="906" y="847"/>
                </a:lnTo>
                <a:lnTo>
                  <a:pt x="901" y="786"/>
                </a:lnTo>
                <a:lnTo>
                  <a:pt x="909" y="675"/>
                </a:lnTo>
                <a:lnTo>
                  <a:pt x="905" y="652"/>
                </a:lnTo>
                <a:lnTo>
                  <a:pt x="896" y="639"/>
                </a:lnTo>
                <a:lnTo>
                  <a:pt x="871" y="637"/>
                </a:lnTo>
                <a:lnTo>
                  <a:pt x="840" y="661"/>
                </a:lnTo>
                <a:lnTo>
                  <a:pt x="820" y="680"/>
                </a:lnTo>
                <a:lnTo>
                  <a:pt x="800" y="702"/>
                </a:lnTo>
                <a:lnTo>
                  <a:pt x="781" y="727"/>
                </a:lnTo>
                <a:lnTo>
                  <a:pt x="761" y="753"/>
                </a:lnTo>
                <a:lnTo>
                  <a:pt x="740" y="778"/>
                </a:lnTo>
                <a:lnTo>
                  <a:pt x="722" y="803"/>
                </a:lnTo>
                <a:lnTo>
                  <a:pt x="704" y="826"/>
                </a:lnTo>
                <a:lnTo>
                  <a:pt x="686" y="846"/>
                </a:lnTo>
                <a:lnTo>
                  <a:pt x="672" y="860"/>
                </a:lnTo>
                <a:lnTo>
                  <a:pt x="659" y="870"/>
                </a:lnTo>
                <a:lnTo>
                  <a:pt x="629" y="885"/>
                </a:lnTo>
                <a:lnTo>
                  <a:pt x="607" y="889"/>
                </a:lnTo>
                <a:lnTo>
                  <a:pt x="579" y="874"/>
                </a:lnTo>
                <a:lnTo>
                  <a:pt x="567" y="835"/>
                </a:lnTo>
                <a:lnTo>
                  <a:pt x="566" y="783"/>
                </a:lnTo>
                <a:lnTo>
                  <a:pt x="561" y="692"/>
                </a:lnTo>
                <a:lnTo>
                  <a:pt x="555" y="680"/>
                </a:lnTo>
                <a:lnTo>
                  <a:pt x="544" y="675"/>
                </a:lnTo>
                <a:lnTo>
                  <a:pt x="505" y="692"/>
                </a:lnTo>
                <a:lnTo>
                  <a:pt x="474" y="721"/>
                </a:lnTo>
                <a:lnTo>
                  <a:pt x="449" y="754"/>
                </a:lnTo>
                <a:lnTo>
                  <a:pt x="436" y="772"/>
                </a:lnTo>
                <a:lnTo>
                  <a:pt x="424" y="792"/>
                </a:lnTo>
                <a:lnTo>
                  <a:pt x="413" y="810"/>
                </a:lnTo>
                <a:lnTo>
                  <a:pt x="401" y="830"/>
                </a:lnTo>
                <a:lnTo>
                  <a:pt x="389" y="848"/>
                </a:lnTo>
                <a:lnTo>
                  <a:pt x="378" y="867"/>
                </a:lnTo>
                <a:lnTo>
                  <a:pt x="364" y="884"/>
                </a:lnTo>
                <a:lnTo>
                  <a:pt x="352" y="900"/>
                </a:lnTo>
                <a:lnTo>
                  <a:pt x="337" y="914"/>
                </a:lnTo>
                <a:lnTo>
                  <a:pt x="321" y="928"/>
                </a:lnTo>
                <a:lnTo>
                  <a:pt x="305" y="939"/>
                </a:lnTo>
                <a:lnTo>
                  <a:pt x="287" y="947"/>
                </a:lnTo>
                <a:lnTo>
                  <a:pt x="283" y="902"/>
                </a:lnTo>
                <a:lnTo>
                  <a:pt x="288" y="865"/>
                </a:lnTo>
                <a:lnTo>
                  <a:pt x="300" y="831"/>
                </a:lnTo>
                <a:lnTo>
                  <a:pt x="317" y="789"/>
                </a:lnTo>
                <a:lnTo>
                  <a:pt x="328" y="748"/>
                </a:lnTo>
                <a:lnTo>
                  <a:pt x="324" y="738"/>
                </a:lnTo>
                <a:lnTo>
                  <a:pt x="314" y="735"/>
                </a:lnTo>
                <a:lnTo>
                  <a:pt x="282" y="744"/>
                </a:lnTo>
                <a:lnTo>
                  <a:pt x="238" y="764"/>
                </a:lnTo>
                <a:lnTo>
                  <a:pt x="212" y="775"/>
                </a:lnTo>
                <a:lnTo>
                  <a:pt x="186" y="784"/>
                </a:lnTo>
                <a:lnTo>
                  <a:pt x="135" y="797"/>
                </a:lnTo>
                <a:lnTo>
                  <a:pt x="91" y="789"/>
                </a:lnTo>
                <a:lnTo>
                  <a:pt x="72" y="776"/>
                </a:lnTo>
                <a:lnTo>
                  <a:pt x="58" y="755"/>
                </a:lnTo>
                <a:lnTo>
                  <a:pt x="55" y="718"/>
                </a:lnTo>
                <a:lnTo>
                  <a:pt x="64" y="700"/>
                </a:lnTo>
                <a:lnTo>
                  <a:pt x="77" y="683"/>
                </a:lnTo>
                <a:lnTo>
                  <a:pt x="94" y="667"/>
                </a:lnTo>
                <a:lnTo>
                  <a:pt x="113" y="651"/>
                </a:lnTo>
                <a:lnTo>
                  <a:pt x="134" y="635"/>
                </a:lnTo>
                <a:lnTo>
                  <a:pt x="153" y="620"/>
                </a:lnTo>
                <a:lnTo>
                  <a:pt x="202" y="565"/>
                </a:lnTo>
                <a:lnTo>
                  <a:pt x="200" y="552"/>
                </a:lnTo>
                <a:lnTo>
                  <a:pt x="190" y="540"/>
                </a:lnTo>
                <a:lnTo>
                  <a:pt x="172" y="528"/>
                </a:lnTo>
                <a:lnTo>
                  <a:pt x="142" y="518"/>
                </a:lnTo>
                <a:lnTo>
                  <a:pt x="157" y="498"/>
                </a:lnTo>
                <a:lnTo>
                  <a:pt x="179" y="482"/>
                </a:lnTo>
                <a:lnTo>
                  <a:pt x="208" y="467"/>
                </a:lnTo>
                <a:lnTo>
                  <a:pt x="241" y="455"/>
                </a:lnTo>
                <a:lnTo>
                  <a:pt x="279" y="444"/>
                </a:lnTo>
                <a:lnTo>
                  <a:pt x="319" y="434"/>
                </a:lnTo>
                <a:lnTo>
                  <a:pt x="397" y="418"/>
                </a:lnTo>
                <a:lnTo>
                  <a:pt x="520" y="385"/>
                </a:lnTo>
                <a:lnTo>
                  <a:pt x="541" y="360"/>
                </a:lnTo>
                <a:lnTo>
                  <a:pt x="537" y="346"/>
                </a:lnTo>
                <a:lnTo>
                  <a:pt x="521" y="328"/>
                </a:lnTo>
                <a:lnTo>
                  <a:pt x="501" y="316"/>
                </a:lnTo>
                <a:lnTo>
                  <a:pt x="482" y="304"/>
                </a:lnTo>
                <a:lnTo>
                  <a:pt x="446" y="276"/>
                </a:lnTo>
                <a:lnTo>
                  <a:pt x="455" y="262"/>
                </a:lnTo>
                <a:lnTo>
                  <a:pt x="466" y="250"/>
                </a:lnTo>
                <a:lnTo>
                  <a:pt x="477" y="239"/>
                </a:lnTo>
                <a:lnTo>
                  <a:pt x="489" y="232"/>
                </a:lnTo>
                <a:lnTo>
                  <a:pt x="517" y="219"/>
                </a:lnTo>
                <a:lnTo>
                  <a:pt x="549" y="213"/>
                </a:lnTo>
                <a:lnTo>
                  <a:pt x="619" y="216"/>
                </a:lnTo>
                <a:lnTo>
                  <a:pt x="691" y="230"/>
                </a:lnTo>
                <a:lnTo>
                  <a:pt x="761" y="248"/>
                </a:lnTo>
                <a:lnTo>
                  <a:pt x="821" y="260"/>
                </a:lnTo>
                <a:lnTo>
                  <a:pt x="864" y="259"/>
                </a:lnTo>
                <a:lnTo>
                  <a:pt x="884" y="237"/>
                </a:lnTo>
                <a:lnTo>
                  <a:pt x="884" y="197"/>
                </a:lnTo>
                <a:lnTo>
                  <a:pt x="875" y="161"/>
                </a:lnTo>
                <a:lnTo>
                  <a:pt x="865" y="85"/>
                </a:lnTo>
                <a:lnTo>
                  <a:pt x="879" y="73"/>
                </a:lnTo>
                <a:lnTo>
                  <a:pt x="896" y="69"/>
                </a:lnTo>
                <a:lnTo>
                  <a:pt x="939" y="75"/>
                </a:lnTo>
                <a:lnTo>
                  <a:pt x="992" y="97"/>
                </a:lnTo>
                <a:lnTo>
                  <a:pt x="1020" y="113"/>
                </a:lnTo>
                <a:lnTo>
                  <a:pt x="1048" y="130"/>
                </a:lnTo>
                <a:lnTo>
                  <a:pt x="1075" y="149"/>
                </a:lnTo>
                <a:lnTo>
                  <a:pt x="1102" y="169"/>
                </a:lnTo>
                <a:lnTo>
                  <a:pt x="1128" y="190"/>
                </a:lnTo>
                <a:lnTo>
                  <a:pt x="1151" y="211"/>
                </a:lnTo>
                <a:lnTo>
                  <a:pt x="1172" y="230"/>
                </a:lnTo>
                <a:lnTo>
                  <a:pt x="1189" y="249"/>
                </a:lnTo>
                <a:lnTo>
                  <a:pt x="1212" y="278"/>
                </a:lnTo>
                <a:lnTo>
                  <a:pt x="1222" y="288"/>
                </a:lnTo>
                <a:lnTo>
                  <a:pt x="1233" y="289"/>
                </a:lnTo>
                <a:lnTo>
                  <a:pt x="1244" y="270"/>
                </a:lnTo>
                <a:lnTo>
                  <a:pt x="1238" y="238"/>
                </a:lnTo>
                <a:lnTo>
                  <a:pt x="1226" y="206"/>
                </a:lnTo>
                <a:lnTo>
                  <a:pt x="1209" y="175"/>
                </a:lnTo>
                <a:lnTo>
                  <a:pt x="1199" y="159"/>
                </a:lnTo>
                <a:lnTo>
                  <a:pt x="1188" y="143"/>
                </a:lnTo>
                <a:lnTo>
                  <a:pt x="1162" y="115"/>
                </a:lnTo>
                <a:lnTo>
                  <a:pt x="1147" y="100"/>
                </a:lnTo>
                <a:lnTo>
                  <a:pt x="1133" y="87"/>
                </a:lnTo>
                <a:lnTo>
                  <a:pt x="1117" y="75"/>
                </a:lnTo>
                <a:lnTo>
                  <a:pt x="1101" y="62"/>
                </a:lnTo>
                <a:lnTo>
                  <a:pt x="1084" y="51"/>
                </a:lnTo>
                <a:lnTo>
                  <a:pt x="1066" y="42"/>
                </a:lnTo>
                <a:lnTo>
                  <a:pt x="1032" y="24"/>
                </a:lnTo>
                <a:lnTo>
                  <a:pt x="995" y="11"/>
                </a:lnTo>
                <a:lnTo>
                  <a:pt x="924" y="0"/>
                </a:lnTo>
                <a:lnTo>
                  <a:pt x="858" y="12"/>
                </a:lnTo>
                <a:lnTo>
                  <a:pt x="802" y="55"/>
                </a:lnTo>
                <a:lnTo>
                  <a:pt x="802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238880" y="990720"/>
            <a:ext cx="1305000" cy="4647240"/>
            <a:chOff x="7238880" y="990720"/>
            <a:chExt cx="1305000" cy="4647240"/>
          </a:xfrm>
        </p:grpSpPr>
        <p:sp>
          <p:nvSpPr>
            <p:cNvPr id="173" name=""/>
            <p:cNvSpPr/>
            <p:nvPr/>
          </p:nvSpPr>
          <p:spPr>
            <a:xfrm>
              <a:off x="7280280" y="1139760"/>
              <a:ext cx="1233360" cy="4329000"/>
            </a:xfrm>
            <a:custGeom>
              <a:avLst/>
              <a:gdLst/>
              <a:ahLst/>
              <a:rect l="l" t="t" r="r" b="b"/>
              <a:pathLst>
                <a:path w="1556" h="2146">
                  <a:moveTo>
                    <a:pt x="249" y="1648"/>
                  </a:moveTo>
                  <a:lnTo>
                    <a:pt x="179" y="1499"/>
                  </a:lnTo>
                  <a:lnTo>
                    <a:pt x="16" y="1360"/>
                  </a:lnTo>
                  <a:lnTo>
                    <a:pt x="0" y="1163"/>
                  </a:lnTo>
                  <a:lnTo>
                    <a:pt x="48" y="1082"/>
                  </a:lnTo>
                  <a:lnTo>
                    <a:pt x="130" y="1060"/>
                  </a:lnTo>
                  <a:lnTo>
                    <a:pt x="336" y="1162"/>
                  </a:lnTo>
                  <a:lnTo>
                    <a:pt x="374" y="1092"/>
                  </a:lnTo>
                  <a:lnTo>
                    <a:pt x="353" y="603"/>
                  </a:lnTo>
                  <a:lnTo>
                    <a:pt x="444" y="517"/>
                  </a:lnTo>
                  <a:lnTo>
                    <a:pt x="532" y="581"/>
                  </a:lnTo>
                  <a:lnTo>
                    <a:pt x="635" y="717"/>
                  </a:lnTo>
                  <a:lnTo>
                    <a:pt x="684" y="668"/>
                  </a:lnTo>
                  <a:lnTo>
                    <a:pt x="721" y="376"/>
                  </a:lnTo>
                  <a:lnTo>
                    <a:pt x="824" y="235"/>
                  </a:lnTo>
                  <a:lnTo>
                    <a:pt x="976" y="300"/>
                  </a:lnTo>
                  <a:lnTo>
                    <a:pt x="1172" y="0"/>
                  </a:lnTo>
                  <a:lnTo>
                    <a:pt x="1281" y="1"/>
                  </a:lnTo>
                  <a:lnTo>
                    <a:pt x="1329" y="98"/>
                  </a:lnTo>
                  <a:lnTo>
                    <a:pt x="1225" y="300"/>
                  </a:lnTo>
                  <a:lnTo>
                    <a:pt x="1415" y="300"/>
                  </a:lnTo>
                  <a:lnTo>
                    <a:pt x="1556" y="338"/>
                  </a:lnTo>
                  <a:lnTo>
                    <a:pt x="1540" y="468"/>
                  </a:lnTo>
                  <a:lnTo>
                    <a:pt x="1263" y="620"/>
                  </a:lnTo>
                  <a:lnTo>
                    <a:pt x="1486" y="712"/>
                  </a:lnTo>
                  <a:lnTo>
                    <a:pt x="1529" y="866"/>
                  </a:lnTo>
                  <a:lnTo>
                    <a:pt x="1404" y="989"/>
                  </a:lnTo>
                  <a:lnTo>
                    <a:pt x="1225" y="1082"/>
                  </a:lnTo>
                  <a:lnTo>
                    <a:pt x="1394" y="1189"/>
                  </a:lnTo>
                  <a:lnTo>
                    <a:pt x="1372" y="1363"/>
                  </a:lnTo>
                  <a:lnTo>
                    <a:pt x="1281" y="1561"/>
                  </a:lnTo>
                  <a:lnTo>
                    <a:pt x="1090" y="1651"/>
                  </a:lnTo>
                  <a:lnTo>
                    <a:pt x="830" y="1689"/>
                  </a:lnTo>
                  <a:lnTo>
                    <a:pt x="602" y="1885"/>
                  </a:lnTo>
                  <a:lnTo>
                    <a:pt x="402" y="1814"/>
                  </a:lnTo>
                  <a:lnTo>
                    <a:pt x="282" y="1933"/>
                  </a:lnTo>
                  <a:lnTo>
                    <a:pt x="146" y="2146"/>
                  </a:lnTo>
                  <a:lnTo>
                    <a:pt x="71" y="2015"/>
                  </a:lnTo>
                  <a:lnTo>
                    <a:pt x="249" y="1648"/>
                  </a:lnTo>
                  <a:lnTo>
                    <a:pt x="249" y="1648"/>
                  </a:lnTo>
                  <a:lnTo>
                    <a:pt x="249" y="1648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24680" y="1909800"/>
              <a:ext cx="455760" cy="705960"/>
            </a:xfrm>
            <a:custGeom>
              <a:avLst/>
              <a:gdLst/>
              <a:ahLst/>
              <a:rect l="l" t="t" r="r" b="b"/>
              <a:pathLst>
                <a:path w="574" h="350">
                  <a:moveTo>
                    <a:pt x="135" y="223"/>
                  </a:moveTo>
                  <a:lnTo>
                    <a:pt x="152" y="210"/>
                  </a:lnTo>
                  <a:lnTo>
                    <a:pt x="173" y="198"/>
                  </a:lnTo>
                  <a:lnTo>
                    <a:pt x="196" y="186"/>
                  </a:lnTo>
                  <a:lnTo>
                    <a:pt x="222" y="175"/>
                  </a:lnTo>
                  <a:lnTo>
                    <a:pt x="249" y="163"/>
                  </a:lnTo>
                  <a:lnTo>
                    <a:pt x="277" y="152"/>
                  </a:lnTo>
                  <a:lnTo>
                    <a:pt x="306" y="139"/>
                  </a:lnTo>
                  <a:lnTo>
                    <a:pt x="336" y="130"/>
                  </a:lnTo>
                  <a:lnTo>
                    <a:pt x="396" y="110"/>
                  </a:lnTo>
                  <a:lnTo>
                    <a:pt x="455" y="94"/>
                  </a:lnTo>
                  <a:lnTo>
                    <a:pt x="507" y="83"/>
                  </a:lnTo>
                  <a:lnTo>
                    <a:pt x="553" y="77"/>
                  </a:lnTo>
                  <a:lnTo>
                    <a:pt x="574" y="89"/>
                  </a:lnTo>
                  <a:lnTo>
                    <a:pt x="572" y="100"/>
                  </a:lnTo>
                  <a:lnTo>
                    <a:pt x="561" y="109"/>
                  </a:lnTo>
                  <a:lnTo>
                    <a:pt x="511" y="127"/>
                  </a:lnTo>
                  <a:lnTo>
                    <a:pt x="460" y="145"/>
                  </a:lnTo>
                  <a:lnTo>
                    <a:pt x="431" y="159"/>
                  </a:lnTo>
                  <a:lnTo>
                    <a:pt x="403" y="172"/>
                  </a:lnTo>
                  <a:lnTo>
                    <a:pt x="375" y="187"/>
                  </a:lnTo>
                  <a:lnTo>
                    <a:pt x="348" y="202"/>
                  </a:lnTo>
                  <a:lnTo>
                    <a:pt x="320" y="218"/>
                  </a:lnTo>
                  <a:lnTo>
                    <a:pt x="293" y="234"/>
                  </a:lnTo>
                  <a:lnTo>
                    <a:pt x="266" y="248"/>
                  </a:lnTo>
                  <a:lnTo>
                    <a:pt x="239" y="264"/>
                  </a:lnTo>
                  <a:lnTo>
                    <a:pt x="212" y="280"/>
                  </a:lnTo>
                  <a:lnTo>
                    <a:pt x="186" y="299"/>
                  </a:lnTo>
                  <a:lnTo>
                    <a:pt x="161" y="318"/>
                  </a:lnTo>
                  <a:lnTo>
                    <a:pt x="136" y="337"/>
                  </a:lnTo>
                  <a:lnTo>
                    <a:pt x="107" y="350"/>
                  </a:lnTo>
                  <a:lnTo>
                    <a:pt x="83" y="348"/>
                  </a:lnTo>
                  <a:lnTo>
                    <a:pt x="67" y="331"/>
                  </a:lnTo>
                  <a:lnTo>
                    <a:pt x="61" y="299"/>
                  </a:lnTo>
                  <a:lnTo>
                    <a:pt x="58" y="264"/>
                  </a:lnTo>
                  <a:lnTo>
                    <a:pt x="49" y="228"/>
                  </a:lnTo>
                  <a:lnTo>
                    <a:pt x="37" y="190"/>
                  </a:lnTo>
                  <a:lnTo>
                    <a:pt x="23" y="150"/>
                  </a:lnTo>
                  <a:lnTo>
                    <a:pt x="2" y="77"/>
                  </a:lnTo>
                  <a:lnTo>
                    <a:pt x="0" y="14"/>
                  </a:lnTo>
                  <a:lnTo>
                    <a:pt x="7" y="3"/>
                  </a:lnTo>
                  <a:lnTo>
                    <a:pt x="17" y="0"/>
                  </a:lnTo>
                  <a:lnTo>
                    <a:pt x="33" y="18"/>
                  </a:lnTo>
                  <a:lnTo>
                    <a:pt x="40" y="57"/>
                  </a:lnTo>
                  <a:lnTo>
                    <a:pt x="49" y="87"/>
                  </a:lnTo>
                  <a:lnTo>
                    <a:pt x="59" y="110"/>
                  </a:lnTo>
                  <a:lnTo>
                    <a:pt x="71" y="130"/>
                  </a:lnTo>
                  <a:lnTo>
                    <a:pt x="85" y="148"/>
                  </a:lnTo>
                  <a:lnTo>
                    <a:pt x="99" y="168"/>
                  </a:lnTo>
                  <a:lnTo>
                    <a:pt x="116" y="192"/>
                  </a:lnTo>
                  <a:lnTo>
                    <a:pt x="135" y="223"/>
                  </a:lnTo>
                  <a:lnTo>
                    <a:pt x="135" y="223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43880" y="2624400"/>
              <a:ext cx="649080" cy="935640"/>
            </a:xfrm>
            <a:custGeom>
              <a:avLst/>
              <a:gdLst/>
              <a:ahLst/>
              <a:rect l="l" t="t" r="r" b="b"/>
              <a:pathLst>
                <a:path w="817" h="464">
                  <a:moveTo>
                    <a:pt x="223" y="358"/>
                  </a:moveTo>
                  <a:lnTo>
                    <a:pt x="256" y="333"/>
                  </a:lnTo>
                  <a:lnTo>
                    <a:pt x="287" y="311"/>
                  </a:lnTo>
                  <a:lnTo>
                    <a:pt x="315" y="289"/>
                  </a:lnTo>
                  <a:lnTo>
                    <a:pt x="344" y="268"/>
                  </a:lnTo>
                  <a:lnTo>
                    <a:pt x="374" y="247"/>
                  </a:lnTo>
                  <a:lnTo>
                    <a:pt x="404" y="228"/>
                  </a:lnTo>
                  <a:lnTo>
                    <a:pt x="438" y="208"/>
                  </a:lnTo>
                  <a:lnTo>
                    <a:pt x="473" y="189"/>
                  </a:lnTo>
                  <a:lnTo>
                    <a:pt x="505" y="179"/>
                  </a:lnTo>
                  <a:lnTo>
                    <a:pt x="555" y="169"/>
                  </a:lnTo>
                  <a:lnTo>
                    <a:pt x="681" y="153"/>
                  </a:lnTo>
                  <a:lnTo>
                    <a:pt x="789" y="147"/>
                  </a:lnTo>
                  <a:lnTo>
                    <a:pt x="817" y="151"/>
                  </a:lnTo>
                  <a:lnTo>
                    <a:pt x="816" y="159"/>
                  </a:lnTo>
                  <a:lnTo>
                    <a:pt x="419" y="317"/>
                  </a:lnTo>
                  <a:lnTo>
                    <a:pt x="395" y="334"/>
                  </a:lnTo>
                  <a:lnTo>
                    <a:pt x="370" y="352"/>
                  </a:lnTo>
                  <a:lnTo>
                    <a:pt x="346" y="371"/>
                  </a:lnTo>
                  <a:lnTo>
                    <a:pt x="322" y="391"/>
                  </a:lnTo>
                  <a:lnTo>
                    <a:pt x="299" y="410"/>
                  </a:lnTo>
                  <a:lnTo>
                    <a:pt x="276" y="430"/>
                  </a:lnTo>
                  <a:lnTo>
                    <a:pt x="251" y="448"/>
                  </a:lnTo>
                  <a:lnTo>
                    <a:pt x="225" y="464"/>
                  </a:lnTo>
                  <a:lnTo>
                    <a:pt x="191" y="461"/>
                  </a:lnTo>
                  <a:lnTo>
                    <a:pt x="172" y="446"/>
                  </a:lnTo>
                  <a:lnTo>
                    <a:pt x="151" y="423"/>
                  </a:lnTo>
                  <a:lnTo>
                    <a:pt x="130" y="395"/>
                  </a:lnTo>
                  <a:lnTo>
                    <a:pt x="109" y="360"/>
                  </a:lnTo>
                  <a:lnTo>
                    <a:pt x="89" y="322"/>
                  </a:lnTo>
                  <a:lnTo>
                    <a:pt x="70" y="282"/>
                  </a:lnTo>
                  <a:lnTo>
                    <a:pt x="51" y="240"/>
                  </a:lnTo>
                  <a:lnTo>
                    <a:pt x="35" y="197"/>
                  </a:lnTo>
                  <a:lnTo>
                    <a:pt x="22" y="155"/>
                  </a:lnTo>
                  <a:lnTo>
                    <a:pt x="11" y="115"/>
                  </a:lnTo>
                  <a:lnTo>
                    <a:pt x="0" y="46"/>
                  </a:lnTo>
                  <a:lnTo>
                    <a:pt x="6" y="0"/>
                  </a:lnTo>
                  <a:lnTo>
                    <a:pt x="16" y="10"/>
                  </a:lnTo>
                  <a:lnTo>
                    <a:pt x="28" y="53"/>
                  </a:lnTo>
                  <a:lnTo>
                    <a:pt x="40" y="103"/>
                  </a:lnTo>
                  <a:lnTo>
                    <a:pt x="49" y="136"/>
                  </a:lnTo>
                  <a:lnTo>
                    <a:pt x="59" y="155"/>
                  </a:lnTo>
                  <a:lnTo>
                    <a:pt x="67" y="175"/>
                  </a:lnTo>
                  <a:lnTo>
                    <a:pt x="77" y="191"/>
                  </a:lnTo>
                  <a:lnTo>
                    <a:pt x="87" y="207"/>
                  </a:lnTo>
                  <a:lnTo>
                    <a:pt x="105" y="234"/>
                  </a:lnTo>
                  <a:lnTo>
                    <a:pt x="126" y="257"/>
                  </a:lnTo>
                  <a:lnTo>
                    <a:pt x="136" y="268"/>
                  </a:lnTo>
                  <a:lnTo>
                    <a:pt x="147" y="281"/>
                  </a:lnTo>
                  <a:lnTo>
                    <a:pt x="170" y="303"/>
                  </a:lnTo>
                  <a:lnTo>
                    <a:pt x="183" y="315"/>
                  </a:lnTo>
                  <a:lnTo>
                    <a:pt x="196" y="328"/>
                  </a:lnTo>
                  <a:lnTo>
                    <a:pt x="210" y="342"/>
                  </a:lnTo>
                  <a:lnTo>
                    <a:pt x="223" y="358"/>
                  </a:lnTo>
                  <a:lnTo>
                    <a:pt x="223" y="358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35800" y="3572280"/>
              <a:ext cx="806400" cy="580680"/>
            </a:xfrm>
            <a:custGeom>
              <a:avLst/>
              <a:gdLst/>
              <a:ahLst/>
              <a:rect l="l" t="t" r="r" b="b"/>
              <a:pathLst>
                <a:path w="1016" h="290">
                  <a:moveTo>
                    <a:pt x="60" y="0"/>
                  </a:moveTo>
                  <a:lnTo>
                    <a:pt x="101" y="20"/>
                  </a:lnTo>
                  <a:lnTo>
                    <a:pt x="142" y="46"/>
                  </a:lnTo>
                  <a:lnTo>
                    <a:pt x="161" y="60"/>
                  </a:lnTo>
                  <a:lnTo>
                    <a:pt x="181" y="74"/>
                  </a:lnTo>
                  <a:lnTo>
                    <a:pt x="199" y="89"/>
                  </a:lnTo>
                  <a:lnTo>
                    <a:pt x="219" y="104"/>
                  </a:lnTo>
                  <a:lnTo>
                    <a:pt x="239" y="119"/>
                  </a:lnTo>
                  <a:lnTo>
                    <a:pt x="258" y="133"/>
                  </a:lnTo>
                  <a:lnTo>
                    <a:pt x="278" y="146"/>
                  </a:lnTo>
                  <a:lnTo>
                    <a:pt x="297" y="160"/>
                  </a:lnTo>
                  <a:lnTo>
                    <a:pt x="318" y="171"/>
                  </a:lnTo>
                  <a:lnTo>
                    <a:pt x="340" y="180"/>
                  </a:lnTo>
                  <a:lnTo>
                    <a:pt x="386" y="194"/>
                  </a:lnTo>
                  <a:lnTo>
                    <a:pt x="410" y="192"/>
                  </a:lnTo>
                  <a:lnTo>
                    <a:pt x="432" y="177"/>
                  </a:lnTo>
                  <a:lnTo>
                    <a:pt x="452" y="158"/>
                  </a:lnTo>
                  <a:lnTo>
                    <a:pt x="473" y="144"/>
                  </a:lnTo>
                  <a:lnTo>
                    <a:pt x="522" y="128"/>
                  </a:lnTo>
                  <a:lnTo>
                    <a:pt x="587" y="114"/>
                  </a:lnTo>
                  <a:lnTo>
                    <a:pt x="659" y="103"/>
                  </a:lnTo>
                  <a:lnTo>
                    <a:pt x="738" y="96"/>
                  </a:lnTo>
                  <a:lnTo>
                    <a:pt x="890" y="95"/>
                  </a:lnTo>
                  <a:lnTo>
                    <a:pt x="1002" y="117"/>
                  </a:lnTo>
                  <a:lnTo>
                    <a:pt x="1016" y="135"/>
                  </a:lnTo>
                  <a:lnTo>
                    <a:pt x="1011" y="144"/>
                  </a:lnTo>
                  <a:lnTo>
                    <a:pt x="997" y="149"/>
                  </a:lnTo>
                  <a:lnTo>
                    <a:pt x="882" y="140"/>
                  </a:lnTo>
                  <a:lnTo>
                    <a:pt x="788" y="151"/>
                  </a:lnTo>
                  <a:lnTo>
                    <a:pt x="691" y="174"/>
                  </a:lnTo>
                  <a:lnTo>
                    <a:pt x="643" y="190"/>
                  </a:lnTo>
                  <a:lnTo>
                    <a:pt x="597" y="206"/>
                  </a:lnTo>
                  <a:lnTo>
                    <a:pt x="550" y="223"/>
                  </a:lnTo>
                  <a:lnTo>
                    <a:pt x="506" y="239"/>
                  </a:lnTo>
                  <a:lnTo>
                    <a:pt x="469" y="258"/>
                  </a:lnTo>
                  <a:lnTo>
                    <a:pt x="435" y="277"/>
                  </a:lnTo>
                  <a:lnTo>
                    <a:pt x="398" y="290"/>
                  </a:lnTo>
                  <a:lnTo>
                    <a:pt x="356" y="287"/>
                  </a:lnTo>
                  <a:lnTo>
                    <a:pt x="312" y="272"/>
                  </a:lnTo>
                  <a:lnTo>
                    <a:pt x="269" y="250"/>
                  </a:lnTo>
                  <a:lnTo>
                    <a:pt x="248" y="238"/>
                  </a:lnTo>
                  <a:lnTo>
                    <a:pt x="226" y="223"/>
                  </a:lnTo>
                  <a:lnTo>
                    <a:pt x="206" y="210"/>
                  </a:lnTo>
                  <a:lnTo>
                    <a:pt x="185" y="194"/>
                  </a:lnTo>
                  <a:lnTo>
                    <a:pt x="164" y="179"/>
                  </a:lnTo>
                  <a:lnTo>
                    <a:pt x="143" y="163"/>
                  </a:lnTo>
                  <a:lnTo>
                    <a:pt x="123" y="149"/>
                  </a:lnTo>
                  <a:lnTo>
                    <a:pt x="103" y="133"/>
                  </a:lnTo>
                  <a:lnTo>
                    <a:pt x="83" y="118"/>
                  </a:lnTo>
                  <a:lnTo>
                    <a:pt x="62" y="103"/>
                  </a:lnTo>
                  <a:lnTo>
                    <a:pt x="43" y="90"/>
                  </a:lnTo>
                  <a:lnTo>
                    <a:pt x="23" y="78"/>
                  </a:lnTo>
                  <a:lnTo>
                    <a:pt x="0" y="49"/>
                  </a:lnTo>
                  <a:lnTo>
                    <a:pt x="2" y="20"/>
                  </a:lnTo>
                  <a:lnTo>
                    <a:pt x="12" y="8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8880" y="990720"/>
              <a:ext cx="1305000" cy="4647240"/>
            </a:xfrm>
            <a:custGeom>
              <a:avLst/>
              <a:gdLst/>
              <a:ahLst/>
              <a:rect l="l" t="t" r="r" b="b"/>
              <a:pathLst>
                <a:path w="1643" h="2303">
                  <a:moveTo>
                    <a:pt x="219" y="1861"/>
                  </a:moveTo>
                  <a:lnTo>
                    <a:pt x="241" y="1753"/>
                  </a:lnTo>
                  <a:lnTo>
                    <a:pt x="240" y="1709"/>
                  </a:lnTo>
                  <a:lnTo>
                    <a:pt x="231" y="1672"/>
                  </a:lnTo>
                  <a:lnTo>
                    <a:pt x="218" y="1639"/>
                  </a:lnTo>
                  <a:lnTo>
                    <a:pt x="209" y="1624"/>
                  </a:lnTo>
                  <a:lnTo>
                    <a:pt x="201" y="1609"/>
                  </a:lnTo>
                  <a:lnTo>
                    <a:pt x="179" y="1583"/>
                  </a:lnTo>
                  <a:lnTo>
                    <a:pt x="167" y="1571"/>
                  </a:lnTo>
                  <a:lnTo>
                    <a:pt x="154" y="1559"/>
                  </a:lnTo>
                  <a:lnTo>
                    <a:pt x="142" y="1548"/>
                  </a:lnTo>
                  <a:lnTo>
                    <a:pt x="130" y="1536"/>
                  </a:lnTo>
                  <a:lnTo>
                    <a:pt x="104" y="1514"/>
                  </a:lnTo>
                  <a:lnTo>
                    <a:pt x="80" y="1489"/>
                  </a:lnTo>
                  <a:lnTo>
                    <a:pt x="67" y="1477"/>
                  </a:lnTo>
                  <a:lnTo>
                    <a:pt x="56" y="1463"/>
                  </a:lnTo>
                  <a:lnTo>
                    <a:pt x="35" y="1435"/>
                  </a:lnTo>
                  <a:lnTo>
                    <a:pt x="18" y="1402"/>
                  </a:lnTo>
                  <a:lnTo>
                    <a:pt x="0" y="1322"/>
                  </a:lnTo>
                  <a:lnTo>
                    <a:pt x="4" y="1286"/>
                  </a:lnTo>
                  <a:lnTo>
                    <a:pt x="16" y="1244"/>
                  </a:lnTo>
                  <a:lnTo>
                    <a:pt x="26" y="1224"/>
                  </a:lnTo>
                  <a:lnTo>
                    <a:pt x="37" y="1204"/>
                  </a:lnTo>
                  <a:lnTo>
                    <a:pt x="49" y="1184"/>
                  </a:lnTo>
                  <a:lnTo>
                    <a:pt x="64" y="1166"/>
                  </a:lnTo>
                  <a:lnTo>
                    <a:pt x="80" y="1148"/>
                  </a:lnTo>
                  <a:lnTo>
                    <a:pt x="97" y="1134"/>
                  </a:lnTo>
                  <a:lnTo>
                    <a:pt x="114" y="1121"/>
                  </a:lnTo>
                  <a:lnTo>
                    <a:pt x="132" y="1112"/>
                  </a:lnTo>
                  <a:lnTo>
                    <a:pt x="171" y="1101"/>
                  </a:lnTo>
                  <a:lnTo>
                    <a:pt x="212" y="1104"/>
                  </a:lnTo>
                  <a:lnTo>
                    <a:pt x="250" y="1131"/>
                  </a:lnTo>
                  <a:lnTo>
                    <a:pt x="274" y="1152"/>
                  </a:lnTo>
                  <a:lnTo>
                    <a:pt x="301" y="1173"/>
                  </a:lnTo>
                  <a:lnTo>
                    <a:pt x="328" y="1190"/>
                  </a:lnTo>
                  <a:lnTo>
                    <a:pt x="353" y="1201"/>
                  </a:lnTo>
                  <a:lnTo>
                    <a:pt x="375" y="1201"/>
                  </a:lnTo>
                  <a:lnTo>
                    <a:pt x="392" y="1186"/>
                  </a:lnTo>
                  <a:lnTo>
                    <a:pt x="399" y="1134"/>
                  </a:lnTo>
                  <a:lnTo>
                    <a:pt x="390" y="1044"/>
                  </a:lnTo>
                  <a:lnTo>
                    <a:pt x="372" y="931"/>
                  </a:lnTo>
                  <a:lnTo>
                    <a:pt x="359" y="812"/>
                  </a:lnTo>
                  <a:lnTo>
                    <a:pt x="357" y="756"/>
                  </a:lnTo>
                  <a:lnTo>
                    <a:pt x="359" y="702"/>
                  </a:lnTo>
                  <a:lnTo>
                    <a:pt x="366" y="656"/>
                  </a:lnTo>
                  <a:lnTo>
                    <a:pt x="374" y="635"/>
                  </a:lnTo>
                  <a:lnTo>
                    <a:pt x="382" y="615"/>
                  </a:lnTo>
                  <a:lnTo>
                    <a:pt x="392" y="599"/>
                  </a:lnTo>
                  <a:lnTo>
                    <a:pt x="406" y="586"/>
                  </a:lnTo>
                  <a:lnTo>
                    <a:pt x="420" y="575"/>
                  </a:lnTo>
                  <a:lnTo>
                    <a:pt x="439" y="567"/>
                  </a:lnTo>
                  <a:lnTo>
                    <a:pt x="482" y="562"/>
                  </a:lnTo>
                  <a:lnTo>
                    <a:pt x="538" y="573"/>
                  </a:lnTo>
                  <a:lnTo>
                    <a:pt x="586" y="603"/>
                  </a:lnTo>
                  <a:lnTo>
                    <a:pt x="604" y="624"/>
                  </a:lnTo>
                  <a:lnTo>
                    <a:pt x="620" y="646"/>
                  </a:lnTo>
                  <a:lnTo>
                    <a:pt x="636" y="669"/>
                  </a:lnTo>
                  <a:lnTo>
                    <a:pt x="652" y="690"/>
                  </a:lnTo>
                  <a:lnTo>
                    <a:pt x="672" y="708"/>
                  </a:lnTo>
                  <a:lnTo>
                    <a:pt x="695" y="721"/>
                  </a:lnTo>
                  <a:lnTo>
                    <a:pt x="698" y="625"/>
                  </a:lnTo>
                  <a:lnTo>
                    <a:pt x="711" y="527"/>
                  </a:lnTo>
                  <a:lnTo>
                    <a:pt x="721" y="479"/>
                  </a:lnTo>
                  <a:lnTo>
                    <a:pt x="733" y="433"/>
                  </a:lnTo>
                  <a:lnTo>
                    <a:pt x="748" y="391"/>
                  </a:lnTo>
                  <a:lnTo>
                    <a:pt x="756" y="371"/>
                  </a:lnTo>
                  <a:lnTo>
                    <a:pt x="765" y="353"/>
                  </a:lnTo>
                  <a:lnTo>
                    <a:pt x="774" y="336"/>
                  </a:lnTo>
                  <a:lnTo>
                    <a:pt x="786" y="321"/>
                  </a:lnTo>
                  <a:lnTo>
                    <a:pt x="797" y="307"/>
                  </a:lnTo>
                  <a:lnTo>
                    <a:pt x="809" y="295"/>
                  </a:lnTo>
                  <a:lnTo>
                    <a:pt x="822" y="285"/>
                  </a:lnTo>
                  <a:lnTo>
                    <a:pt x="836" y="277"/>
                  </a:lnTo>
                  <a:lnTo>
                    <a:pt x="866" y="267"/>
                  </a:lnTo>
                  <a:lnTo>
                    <a:pt x="937" y="278"/>
                  </a:lnTo>
                  <a:lnTo>
                    <a:pt x="979" y="301"/>
                  </a:lnTo>
                  <a:lnTo>
                    <a:pt x="1001" y="317"/>
                  </a:lnTo>
                  <a:lnTo>
                    <a:pt x="1025" y="337"/>
                  </a:lnTo>
                  <a:lnTo>
                    <a:pt x="1038" y="310"/>
                  </a:lnTo>
                  <a:lnTo>
                    <a:pt x="1050" y="284"/>
                  </a:lnTo>
                  <a:lnTo>
                    <a:pt x="1064" y="260"/>
                  </a:lnTo>
                  <a:lnTo>
                    <a:pt x="1077" y="236"/>
                  </a:lnTo>
                  <a:lnTo>
                    <a:pt x="1089" y="214"/>
                  </a:lnTo>
                  <a:lnTo>
                    <a:pt x="1102" y="195"/>
                  </a:lnTo>
                  <a:lnTo>
                    <a:pt x="1115" y="174"/>
                  </a:lnTo>
                  <a:lnTo>
                    <a:pt x="1127" y="157"/>
                  </a:lnTo>
                  <a:lnTo>
                    <a:pt x="1140" y="140"/>
                  </a:lnTo>
                  <a:lnTo>
                    <a:pt x="1151" y="122"/>
                  </a:lnTo>
                  <a:lnTo>
                    <a:pt x="1175" y="94"/>
                  </a:lnTo>
                  <a:lnTo>
                    <a:pt x="1186" y="81"/>
                  </a:lnTo>
                  <a:lnTo>
                    <a:pt x="1197" y="70"/>
                  </a:lnTo>
                  <a:lnTo>
                    <a:pt x="1221" y="49"/>
                  </a:lnTo>
                  <a:lnTo>
                    <a:pt x="1241" y="32"/>
                  </a:lnTo>
                  <a:lnTo>
                    <a:pt x="1262" y="18"/>
                  </a:lnTo>
                  <a:lnTo>
                    <a:pt x="1300" y="2"/>
                  </a:lnTo>
                  <a:lnTo>
                    <a:pt x="1333" y="0"/>
                  </a:lnTo>
                  <a:lnTo>
                    <a:pt x="1363" y="8"/>
                  </a:lnTo>
                  <a:lnTo>
                    <a:pt x="1386" y="27"/>
                  </a:lnTo>
                  <a:lnTo>
                    <a:pt x="1403" y="54"/>
                  </a:lnTo>
                  <a:lnTo>
                    <a:pt x="1419" y="129"/>
                  </a:lnTo>
                  <a:lnTo>
                    <a:pt x="1417" y="174"/>
                  </a:lnTo>
                  <a:lnTo>
                    <a:pt x="1406" y="224"/>
                  </a:lnTo>
                  <a:lnTo>
                    <a:pt x="1398" y="249"/>
                  </a:lnTo>
                  <a:lnTo>
                    <a:pt x="1387" y="274"/>
                  </a:lnTo>
                  <a:lnTo>
                    <a:pt x="1375" y="300"/>
                  </a:lnTo>
                  <a:lnTo>
                    <a:pt x="1360" y="326"/>
                  </a:lnTo>
                  <a:lnTo>
                    <a:pt x="1471" y="322"/>
                  </a:lnTo>
                  <a:lnTo>
                    <a:pt x="1555" y="343"/>
                  </a:lnTo>
                  <a:lnTo>
                    <a:pt x="1614" y="381"/>
                  </a:lnTo>
                  <a:lnTo>
                    <a:pt x="1643" y="434"/>
                  </a:lnTo>
                  <a:lnTo>
                    <a:pt x="1641" y="496"/>
                  </a:lnTo>
                  <a:lnTo>
                    <a:pt x="1628" y="529"/>
                  </a:lnTo>
                  <a:lnTo>
                    <a:pt x="1618" y="547"/>
                  </a:lnTo>
                  <a:lnTo>
                    <a:pt x="1607" y="564"/>
                  </a:lnTo>
                  <a:lnTo>
                    <a:pt x="1592" y="581"/>
                  </a:lnTo>
                  <a:lnTo>
                    <a:pt x="1575" y="598"/>
                  </a:lnTo>
                  <a:lnTo>
                    <a:pt x="1556" y="615"/>
                  </a:lnTo>
                  <a:lnTo>
                    <a:pt x="1536" y="631"/>
                  </a:lnTo>
                  <a:lnTo>
                    <a:pt x="1512" y="648"/>
                  </a:lnTo>
                  <a:lnTo>
                    <a:pt x="1487" y="664"/>
                  </a:lnTo>
                  <a:lnTo>
                    <a:pt x="1458" y="679"/>
                  </a:lnTo>
                  <a:lnTo>
                    <a:pt x="1428" y="695"/>
                  </a:lnTo>
                  <a:lnTo>
                    <a:pt x="1528" y="730"/>
                  </a:lnTo>
                  <a:lnTo>
                    <a:pt x="1567" y="754"/>
                  </a:lnTo>
                  <a:lnTo>
                    <a:pt x="1598" y="781"/>
                  </a:lnTo>
                  <a:lnTo>
                    <a:pt x="1636" y="841"/>
                  </a:lnTo>
                  <a:lnTo>
                    <a:pt x="1643" y="907"/>
                  </a:lnTo>
                  <a:lnTo>
                    <a:pt x="1634" y="941"/>
                  </a:lnTo>
                  <a:lnTo>
                    <a:pt x="1626" y="958"/>
                  </a:lnTo>
                  <a:lnTo>
                    <a:pt x="1617" y="974"/>
                  </a:lnTo>
                  <a:lnTo>
                    <a:pt x="1604" y="991"/>
                  </a:lnTo>
                  <a:lnTo>
                    <a:pt x="1591" y="1009"/>
                  </a:lnTo>
                  <a:lnTo>
                    <a:pt x="1575" y="1025"/>
                  </a:lnTo>
                  <a:lnTo>
                    <a:pt x="1556" y="1040"/>
                  </a:lnTo>
                  <a:lnTo>
                    <a:pt x="1537" y="1056"/>
                  </a:lnTo>
                  <a:lnTo>
                    <a:pt x="1515" y="1072"/>
                  </a:lnTo>
                  <a:lnTo>
                    <a:pt x="1490" y="1087"/>
                  </a:lnTo>
                  <a:lnTo>
                    <a:pt x="1465" y="1102"/>
                  </a:lnTo>
                  <a:lnTo>
                    <a:pt x="1436" y="1115"/>
                  </a:lnTo>
                  <a:lnTo>
                    <a:pt x="1406" y="1128"/>
                  </a:lnTo>
                  <a:lnTo>
                    <a:pt x="1373" y="1140"/>
                  </a:lnTo>
                  <a:lnTo>
                    <a:pt x="1337" y="1151"/>
                  </a:lnTo>
                  <a:lnTo>
                    <a:pt x="1411" y="1177"/>
                  </a:lnTo>
                  <a:lnTo>
                    <a:pt x="1439" y="1194"/>
                  </a:lnTo>
                  <a:lnTo>
                    <a:pt x="1462" y="1213"/>
                  </a:lnTo>
                  <a:lnTo>
                    <a:pt x="1494" y="1261"/>
                  </a:lnTo>
                  <a:lnTo>
                    <a:pt x="1507" y="1316"/>
                  </a:lnTo>
                  <a:lnTo>
                    <a:pt x="1506" y="1376"/>
                  </a:lnTo>
                  <a:lnTo>
                    <a:pt x="1499" y="1408"/>
                  </a:lnTo>
                  <a:lnTo>
                    <a:pt x="1489" y="1440"/>
                  </a:lnTo>
                  <a:lnTo>
                    <a:pt x="1477" y="1473"/>
                  </a:lnTo>
                  <a:lnTo>
                    <a:pt x="1461" y="1506"/>
                  </a:lnTo>
                  <a:lnTo>
                    <a:pt x="1441" y="1538"/>
                  </a:lnTo>
                  <a:lnTo>
                    <a:pt x="1431" y="1554"/>
                  </a:lnTo>
                  <a:lnTo>
                    <a:pt x="1420" y="1570"/>
                  </a:lnTo>
                  <a:lnTo>
                    <a:pt x="1409" y="1586"/>
                  </a:lnTo>
                  <a:lnTo>
                    <a:pt x="1397" y="1602"/>
                  </a:lnTo>
                  <a:lnTo>
                    <a:pt x="1371" y="1633"/>
                  </a:lnTo>
                  <a:lnTo>
                    <a:pt x="1358" y="1647"/>
                  </a:lnTo>
                  <a:lnTo>
                    <a:pt x="1344" y="1662"/>
                  </a:lnTo>
                  <a:lnTo>
                    <a:pt x="1330" y="1675"/>
                  </a:lnTo>
                  <a:lnTo>
                    <a:pt x="1315" y="1689"/>
                  </a:lnTo>
                  <a:lnTo>
                    <a:pt x="1300" y="1702"/>
                  </a:lnTo>
                  <a:lnTo>
                    <a:pt x="1284" y="1715"/>
                  </a:lnTo>
                  <a:lnTo>
                    <a:pt x="1268" y="1727"/>
                  </a:lnTo>
                  <a:lnTo>
                    <a:pt x="1252" y="1739"/>
                  </a:lnTo>
                  <a:lnTo>
                    <a:pt x="1237" y="1750"/>
                  </a:lnTo>
                  <a:lnTo>
                    <a:pt x="1221" y="1761"/>
                  </a:lnTo>
                  <a:lnTo>
                    <a:pt x="1188" y="1780"/>
                  </a:lnTo>
                  <a:lnTo>
                    <a:pt x="1153" y="1796"/>
                  </a:lnTo>
                  <a:lnTo>
                    <a:pt x="1119" y="1809"/>
                  </a:lnTo>
                  <a:lnTo>
                    <a:pt x="1085" y="1819"/>
                  </a:lnTo>
                  <a:lnTo>
                    <a:pt x="1050" y="1825"/>
                  </a:lnTo>
                  <a:lnTo>
                    <a:pt x="983" y="1825"/>
                  </a:lnTo>
                  <a:lnTo>
                    <a:pt x="919" y="1807"/>
                  </a:lnTo>
                  <a:lnTo>
                    <a:pt x="891" y="1823"/>
                  </a:lnTo>
                  <a:lnTo>
                    <a:pt x="864" y="1841"/>
                  </a:lnTo>
                  <a:lnTo>
                    <a:pt x="838" y="1859"/>
                  </a:lnTo>
                  <a:lnTo>
                    <a:pt x="814" y="1880"/>
                  </a:lnTo>
                  <a:lnTo>
                    <a:pt x="789" y="1901"/>
                  </a:lnTo>
                  <a:lnTo>
                    <a:pt x="765" y="1922"/>
                  </a:lnTo>
                  <a:lnTo>
                    <a:pt x="739" y="1941"/>
                  </a:lnTo>
                  <a:lnTo>
                    <a:pt x="714" y="1962"/>
                  </a:lnTo>
                  <a:lnTo>
                    <a:pt x="685" y="1981"/>
                  </a:lnTo>
                  <a:lnTo>
                    <a:pt x="660" y="1992"/>
                  </a:lnTo>
                  <a:lnTo>
                    <a:pt x="618" y="1994"/>
                  </a:lnTo>
                  <a:lnTo>
                    <a:pt x="583" y="1979"/>
                  </a:lnTo>
                  <a:lnTo>
                    <a:pt x="551" y="1959"/>
                  </a:lnTo>
                  <a:lnTo>
                    <a:pt x="535" y="1949"/>
                  </a:lnTo>
                  <a:lnTo>
                    <a:pt x="520" y="1941"/>
                  </a:lnTo>
                  <a:lnTo>
                    <a:pt x="482" y="1939"/>
                  </a:lnTo>
                  <a:lnTo>
                    <a:pt x="435" y="1961"/>
                  </a:lnTo>
                  <a:lnTo>
                    <a:pt x="407" y="1986"/>
                  </a:lnTo>
                  <a:lnTo>
                    <a:pt x="391" y="2001"/>
                  </a:lnTo>
                  <a:lnTo>
                    <a:pt x="375" y="2020"/>
                  </a:lnTo>
                  <a:lnTo>
                    <a:pt x="295" y="2028"/>
                  </a:lnTo>
                  <a:lnTo>
                    <a:pt x="294" y="2014"/>
                  </a:lnTo>
                  <a:lnTo>
                    <a:pt x="295" y="1998"/>
                  </a:lnTo>
                  <a:lnTo>
                    <a:pt x="305" y="1966"/>
                  </a:lnTo>
                  <a:lnTo>
                    <a:pt x="316" y="1949"/>
                  </a:lnTo>
                  <a:lnTo>
                    <a:pt x="333" y="1929"/>
                  </a:lnTo>
                  <a:lnTo>
                    <a:pt x="343" y="1919"/>
                  </a:lnTo>
                  <a:lnTo>
                    <a:pt x="355" y="1908"/>
                  </a:lnTo>
                  <a:lnTo>
                    <a:pt x="370" y="1896"/>
                  </a:lnTo>
                  <a:lnTo>
                    <a:pt x="386" y="1884"/>
                  </a:lnTo>
                  <a:lnTo>
                    <a:pt x="414" y="1872"/>
                  </a:lnTo>
                  <a:lnTo>
                    <a:pt x="446" y="1869"/>
                  </a:lnTo>
                  <a:lnTo>
                    <a:pt x="517" y="1884"/>
                  </a:lnTo>
                  <a:lnTo>
                    <a:pt x="554" y="1894"/>
                  </a:lnTo>
                  <a:lnTo>
                    <a:pt x="589" y="1899"/>
                  </a:lnTo>
                  <a:lnTo>
                    <a:pt x="651" y="1883"/>
                  </a:lnTo>
                  <a:lnTo>
                    <a:pt x="675" y="1863"/>
                  </a:lnTo>
                  <a:lnTo>
                    <a:pt x="689" y="1852"/>
                  </a:lnTo>
                  <a:lnTo>
                    <a:pt x="703" y="1840"/>
                  </a:lnTo>
                  <a:lnTo>
                    <a:pt x="719" y="1826"/>
                  </a:lnTo>
                  <a:lnTo>
                    <a:pt x="735" y="1813"/>
                  </a:lnTo>
                  <a:lnTo>
                    <a:pt x="751" y="1799"/>
                  </a:lnTo>
                  <a:lnTo>
                    <a:pt x="768" y="1786"/>
                  </a:lnTo>
                  <a:lnTo>
                    <a:pt x="784" y="1772"/>
                  </a:lnTo>
                  <a:lnTo>
                    <a:pt x="801" y="1760"/>
                  </a:lnTo>
                  <a:lnTo>
                    <a:pt x="817" y="1748"/>
                  </a:lnTo>
                  <a:lnTo>
                    <a:pt x="833" y="1737"/>
                  </a:lnTo>
                  <a:lnTo>
                    <a:pt x="863" y="1720"/>
                  </a:lnTo>
                  <a:lnTo>
                    <a:pt x="888" y="1709"/>
                  </a:lnTo>
                  <a:lnTo>
                    <a:pt x="962" y="1691"/>
                  </a:lnTo>
                  <a:lnTo>
                    <a:pt x="1031" y="1683"/>
                  </a:lnTo>
                  <a:lnTo>
                    <a:pt x="1158" y="1666"/>
                  </a:lnTo>
                  <a:lnTo>
                    <a:pt x="1216" y="1647"/>
                  </a:lnTo>
                  <a:lnTo>
                    <a:pt x="1270" y="1614"/>
                  </a:lnTo>
                  <a:lnTo>
                    <a:pt x="1295" y="1591"/>
                  </a:lnTo>
                  <a:lnTo>
                    <a:pt x="1320" y="1561"/>
                  </a:lnTo>
                  <a:lnTo>
                    <a:pt x="1343" y="1526"/>
                  </a:lnTo>
                  <a:lnTo>
                    <a:pt x="1365" y="1484"/>
                  </a:lnTo>
                  <a:lnTo>
                    <a:pt x="1379" y="1456"/>
                  </a:lnTo>
                  <a:lnTo>
                    <a:pt x="1390" y="1430"/>
                  </a:lnTo>
                  <a:lnTo>
                    <a:pt x="1406" y="1384"/>
                  </a:lnTo>
                  <a:lnTo>
                    <a:pt x="1417" y="1315"/>
                  </a:lnTo>
                  <a:lnTo>
                    <a:pt x="1412" y="1292"/>
                  </a:lnTo>
                  <a:lnTo>
                    <a:pt x="1402" y="1273"/>
                  </a:lnTo>
                  <a:lnTo>
                    <a:pt x="1387" y="1260"/>
                  </a:lnTo>
                  <a:lnTo>
                    <a:pt x="1368" y="1251"/>
                  </a:lnTo>
                  <a:lnTo>
                    <a:pt x="1315" y="1245"/>
                  </a:lnTo>
                  <a:lnTo>
                    <a:pt x="1251" y="1249"/>
                  </a:lnTo>
                  <a:lnTo>
                    <a:pt x="1179" y="1260"/>
                  </a:lnTo>
                  <a:lnTo>
                    <a:pt x="1103" y="1270"/>
                  </a:lnTo>
                  <a:lnTo>
                    <a:pt x="1066" y="1266"/>
                  </a:lnTo>
                  <a:lnTo>
                    <a:pt x="1044" y="1245"/>
                  </a:lnTo>
                  <a:lnTo>
                    <a:pt x="1043" y="1217"/>
                  </a:lnTo>
                  <a:lnTo>
                    <a:pt x="1050" y="1201"/>
                  </a:lnTo>
                  <a:lnTo>
                    <a:pt x="1064" y="1185"/>
                  </a:lnTo>
                  <a:lnTo>
                    <a:pt x="1082" y="1170"/>
                  </a:lnTo>
                  <a:lnTo>
                    <a:pt x="1107" y="1156"/>
                  </a:lnTo>
                  <a:lnTo>
                    <a:pt x="1136" y="1139"/>
                  </a:lnTo>
                  <a:lnTo>
                    <a:pt x="1170" y="1123"/>
                  </a:lnTo>
                  <a:lnTo>
                    <a:pt x="1207" y="1107"/>
                  </a:lnTo>
                  <a:lnTo>
                    <a:pt x="1246" y="1090"/>
                  </a:lnTo>
                  <a:lnTo>
                    <a:pt x="1286" y="1072"/>
                  </a:lnTo>
                  <a:lnTo>
                    <a:pt x="1326" y="1056"/>
                  </a:lnTo>
                  <a:lnTo>
                    <a:pt x="1365" y="1040"/>
                  </a:lnTo>
                  <a:lnTo>
                    <a:pt x="1403" y="1025"/>
                  </a:lnTo>
                  <a:lnTo>
                    <a:pt x="1439" y="1010"/>
                  </a:lnTo>
                  <a:lnTo>
                    <a:pt x="1469" y="996"/>
                  </a:lnTo>
                  <a:lnTo>
                    <a:pt x="1516" y="973"/>
                  </a:lnTo>
                  <a:lnTo>
                    <a:pt x="1537" y="956"/>
                  </a:lnTo>
                  <a:lnTo>
                    <a:pt x="1543" y="914"/>
                  </a:lnTo>
                  <a:lnTo>
                    <a:pt x="1537" y="879"/>
                  </a:lnTo>
                  <a:lnTo>
                    <a:pt x="1520" y="850"/>
                  </a:lnTo>
                  <a:lnTo>
                    <a:pt x="1509" y="838"/>
                  </a:lnTo>
                  <a:lnTo>
                    <a:pt x="1496" y="828"/>
                  </a:lnTo>
                  <a:lnTo>
                    <a:pt x="1466" y="810"/>
                  </a:lnTo>
                  <a:lnTo>
                    <a:pt x="1430" y="795"/>
                  </a:lnTo>
                  <a:lnTo>
                    <a:pt x="1393" y="784"/>
                  </a:lnTo>
                  <a:lnTo>
                    <a:pt x="1355" y="776"/>
                  </a:lnTo>
                  <a:lnTo>
                    <a:pt x="1235" y="743"/>
                  </a:lnTo>
                  <a:lnTo>
                    <a:pt x="1221" y="718"/>
                  </a:lnTo>
                  <a:lnTo>
                    <a:pt x="1232" y="700"/>
                  </a:lnTo>
                  <a:lnTo>
                    <a:pt x="1243" y="690"/>
                  </a:lnTo>
                  <a:lnTo>
                    <a:pt x="1257" y="678"/>
                  </a:lnTo>
                  <a:lnTo>
                    <a:pt x="1276" y="664"/>
                  </a:lnTo>
                  <a:lnTo>
                    <a:pt x="1295" y="653"/>
                  </a:lnTo>
                  <a:lnTo>
                    <a:pt x="1335" y="632"/>
                  </a:lnTo>
                  <a:lnTo>
                    <a:pt x="1375" y="615"/>
                  </a:lnTo>
                  <a:lnTo>
                    <a:pt x="1416" y="597"/>
                  </a:lnTo>
                  <a:lnTo>
                    <a:pt x="1455" y="577"/>
                  </a:lnTo>
                  <a:lnTo>
                    <a:pt x="1492" y="554"/>
                  </a:lnTo>
                  <a:lnTo>
                    <a:pt x="1509" y="539"/>
                  </a:lnTo>
                  <a:lnTo>
                    <a:pt x="1525" y="523"/>
                  </a:lnTo>
                  <a:lnTo>
                    <a:pt x="1552" y="486"/>
                  </a:lnTo>
                  <a:lnTo>
                    <a:pt x="1514" y="430"/>
                  </a:lnTo>
                  <a:lnTo>
                    <a:pt x="1454" y="418"/>
                  </a:lnTo>
                  <a:lnTo>
                    <a:pt x="1396" y="420"/>
                  </a:lnTo>
                  <a:lnTo>
                    <a:pt x="1337" y="430"/>
                  </a:lnTo>
                  <a:lnTo>
                    <a:pt x="1277" y="440"/>
                  </a:lnTo>
                  <a:lnTo>
                    <a:pt x="1230" y="437"/>
                  </a:lnTo>
                  <a:lnTo>
                    <a:pt x="1217" y="419"/>
                  </a:lnTo>
                  <a:lnTo>
                    <a:pt x="1221" y="404"/>
                  </a:lnTo>
                  <a:lnTo>
                    <a:pt x="1229" y="386"/>
                  </a:lnTo>
                  <a:lnTo>
                    <a:pt x="1241" y="365"/>
                  </a:lnTo>
                  <a:lnTo>
                    <a:pt x="1256" y="342"/>
                  </a:lnTo>
                  <a:lnTo>
                    <a:pt x="1272" y="317"/>
                  </a:lnTo>
                  <a:lnTo>
                    <a:pt x="1289" y="292"/>
                  </a:lnTo>
                  <a:lnTo>
                    <a:pt x="1305" y="263"/>
                  </a:lnTo>
                  <a:lnTo>
                    <a:pt x="1320" y="235"/>
                  </a:lnTo>
                  <a:lnTo>
                    <a:pt x="1338" y="179"/>
                  </a:lnTo>
                  <a:lnTo>
                    <a:pt x="1336" y="124"/>
                  </a:lnTo>
                  <a:lnTo>
                    <a:pt x="1270" y="125"/>
                  </a:lnTo>
                  <a:lnTo>
                    <a:pt x="1233" y="146"/>
                  </a:lnTo>
                  <a:lnTo>
                    <a:pt x="1213" y="164"/>
                  </a:lnTo>
                  <a:lnTo>
                    <a:pt x="1194" y="187"/>
                  </a:lnTo>
                  <a:lnTo>
                    <a:pt x="1174" y="213"/>
                  </a:lnTo>
                  <a:lnTo>
                    <a:pt x="1154" y="241"/>
                  </a:lnTo>
                  <a:lnTo>
                    <a:pt x="1136" y="271"/>
                  </a:lnTo>
                  <a:lnTo>
                    <a:pt x="1118" y="301"/>
                  </a:lnTo>
                  <a:lnTo>
                    <a:pt x="1102" y="332"/>
                  </a:lnTo>
                  <a:lnTo>
                    <a:pt x="1086" y="360"/>
                  </a:lnTo>
                  <a:lnTo>
                    <a:pt x="1071" y="387"/>
                  </a:lnTo>
                  <a:lnTo>
                    <a:pt x="1060" y="412"/>
                  </a:lnTo>
                  <a:lnTo>
                    <a:pt x="1043" y="448"/>
                  </a:lnTo>
                  <a:lnTo>
                    <a:pt x="1037" y="462"/>
                  </a:lnTo>
                  <a:lnTo>
                    <a:pt x="998" y="442"/>
                  </a:lnTo>
                  <a:lnTo>
                    <a:pt x="982" y="428"/>
                  </a:lnTo>
                  <a:lnTo>
                    <a:pt x="967" y="410"/>
                  </a:lnTo>
                  <a:lnTo>
                    <a:pt x="951" y="392"/>
                  </a:lnTo>
                  <a:lnTo>
                    <a:pt x="934" y="375"/>
                  </a:lnTo>
                  <a:lnTo>
                    <a:pt x="913" y="359"/>
                  </a:lnTo>
                  <a:lnTo>
                    <a:pt x="888" y="345"/>
                  </a:lnTo>
                  <a:lnTo>
                    <a:pt x="861" y="372"/>
                  </a:lnTo>
                  <a:lnTo>
                    <a:pt x="839" y="408"/>
                  </a:lnTo>
                  <a:lnTo>
                    <a:pt x="810" y="506"/>
                  </a:lnTo>
                  <a:lnTo>
                    <a:pt x="795" y="630"/>
                  </a:lnTo>
                  <a:lnTo>
                    <a:pt x="792" y="772"/>
                  </a:lnTo>
                  <a:lnTo>
                    <a:pt x="751" y="820"/>
                  </a:lnTo>
                  <a:lnTo>
                    <a:pt x="712" y="820"/>
                  </a:lnTo>
                  <a:lnTo>
                    <a:pt x="680" y="805"/>
                  </a:lnTo>
                  <a:lnTo>
                    <a:pt x="652" y="782"/>
                  </a:lnTo>
                  <a:lnTo>
                    <a:pt x="627" y="754"/>
                  </a:lnTo>
                  <a:lnTo>
                    <a:pt x="603" y="722"/>
                  </a:lnTo>
                  <a:lnTo>
                    <a:pt x="589" y="707"/>
                  </a:lnTo>
                  <a:lnTo>
                    <a:pt x="577" y="692"/>
                  </a:lnTo>
                  <a:lnTo>
                    <a:pt x="562" y="680"/>
                  </a:lnTo>
                  <a:lnTo>
                    <a:pt x="548" y="669"/>
                  </a:lnTo>
                  <a:lnTo>
                    <a:pt x="515" y="654"/>
                  </a:lnTo>
                  <a:lnTo>
                    <a:pt x="485" y="653"/>
                  </a:lnTo>
                  <a:lnTo>
                    <a:pt x="462" y="664"/>
                  </a:lnTo>
                  <a:lnTo>
                    <a:pt x="436" y="714"/>
                  </a:lnTo>
                  <a:lnTo>
                    <a:pt x="429" y="794"/>
                  </a:lnTo>
                  <a:lnTo>
                    <a:pt x="434" y="892"/>
                  </a:lnTo>
                  <a:lnTo>
                    <a:pt x="444" y="999"/>
                  </a:lnTo>
                  <a:lnTo>
                    <a:pt x="452" y="1101"/>
                  </a:lnTo>
                  <a:lnTo>
                    <a:pt x="451" y="1188"/>
                  </a:lnTo>
                  <a:lnTo>
                    <a:pt x="445" y="1221"/>
                  </a:lnTo>
                  <a:lnTo>
                    <a:pt x="434" y="1248"/>
                  </a:lnTo>
                  <a:lnTo>
                    <a:pt x="426" y="1257"/>
                  </a:lnTo>
                  <a:lnTo>
                    <a:pt x="417" y="1264"/>
                  </a:lnTo>
                  <a:lnTo>
                    <a:pt x="396" y="1270"/>
                  </a:lnTo>
                  <a:lnTo>
                    <a:pt x="343" y="1259"/>
                  </a:lnTo>
                  <a:lnTo>
                    <a:pt x="314" y="1245"/>
                  </a:lnTo>
                  <a:lnTo>
                    <a:pt x="282" y="1229"/>
                  </a:lnTo>
                  <a:lnTo>
                    <a:pt x="250" y="1211"/>
                  </a:lnTo>
                  <a:lnTo>
                    <a:pt x="219" y="1195"/>
                  </a:lnTo>
                  <a:lnTo>
                    <a:pt x="189" y="1180"/>
                  </a:lnTo>
                  <a:lnTo>
                    <a:pt x="160" y="1172"/>
                  </a:lnTo>
                  <a:lnTo>
                    <a:pt x="113" y="1174"/>
                  </a:lnTo>
                  <a:lnTo>
                    <a:pt x="95" y="1190"/>
                  </a:lnTo>
                  <a:lnTo>
                    <a:pt x="83" y="1218"/>
                  </a:lnTo>
                  <a:lnTo>
                    <a:pt x="77" y="1318"/>
                  </a:lnTo>
                  <a:lnTo>
                    <a:pt x="82" y="1359"/>
                  </a:lnTo>
                  <a:lnTo>
                    <a:pt x="94" y="1395"/>
                  </a:lnTo>
                  <a:lnTo>
                    <a:pt x="110" y="1424"/>
                  </a:lnTo>
                  <a:lnTo>
                    <a:pt x="129" y="1449"/>
                  </a:lnTo>
                  <a:lnTo>
                    <a:pt x="140" y="1460"/>
                  </a:lnTo>
                  <a:lnTo>
                    <a:pt x="152" y="1470"/>
                  </a:lnTo>
                  <a:lnTo>
                    <a:pt x="175" y="1488"/>
                  </a:lnTo>
                  <a:lnTo>
                    <a:pt x="201" y="1505"/>
                  </a:lnTo>
                  <a:lnTo>
                    <a:pt x="225" y="1521"/>
                  </a:lnTo>
                  <a:lnTo>
                    <a:pt x="250" y="1537"/>
                  </a:lnTo>
                  <a:lnTo>
                    <a:pt x="272" y="1555"/>
                  </a:lnTo>
                  <a:lnTo>
                    <a:pt x="307" y="1599"/>
                  </a:lnTo>
                  <a:lnTo>
                    <a:pt x="326" y="1661"/>
                  </a:lnTo>
                  <a:lnTo>
                    <a:pt x="326" y="1680"/>
                  </a:lnTo>
                  <a:lnTo>
                    <a:pt x="326" y="1701"/>
                  </a:lnTo>
                  <a:lnTo>
                    <a:pt x="319" y="1749"/>
                  </a:lnTo>
                  <a:lnTo>
                    <a:pt x="338" y="1728"/>
                  </a:lnTo>
                  <a:lnTo>
                    <a:pt x="360" y="1707"/>
                  </a:lnTo>
                  <a:lnTo>
                    <a:pt x="381" y="1685"/>
                  </a:lnTo>
                  <a:lnTo>
                    <a:pt x="404" y="1662"/>
                  </a:lnTo>
                  <a:lnTo>
                    <a:pt x="415" y="1651"/>
                  </a:lnTo>
                  <a:lnTo>
                    <a:pt x="428" y="1639"/>
                  </a:lnTo>
                  <a:lnTo>
                    <a:pt x="439" y="1626"/>
                  </a:lnTo>
                  <a:lnTo>
                    <a:pt x="451" y="1614"/>
                  </a:lnTo>
                  <a:lnTo>
                    <a:pt x="463" y="1602"/>
                  </a:lnTo>
                  <a:lnTo>
                    <a:pt x="475" y="1588"/>
                  </a:lnTo>
                  <a:lnTo>
                    <a:pt x="488" y="1575"/>
                  </a:lnTo>
                  <a:lnTo>
                    <a:pt x="500" y="1561"/>
                  </a:lnTo>
                  <a:lnTo>
                    <a:pt x="512" y="1549"/>
                  </a:lnTo>
                  <a:lnTo>
                    <a:pt x="523" y="1537"/>
                  </a:lnTo>
                  <a:lnTo>
                    <a:pt x="543" y="1514"/>
                  </a:lnTo>
                  <a:lnTo>
                    <a:pt x="560" y="1492"/>
                  </a:lnTo>
                  <a:lnTo>
                    <a:pt x="575" y="1471"/>
                  </a:lnTo>
                  <a:lnTo>
                    <a:pt x="587" y="1451"/>
                  </a:lnTo>
                  <a:lnTo>
                    <a:pt x="598" y="1433"/>
                  </a:lnTo>
                  <a:lnTo>
                    <a:pt x="616" y="1394"/>
                  </a:lnTo>
                  <a:lnTo>
                    <a:pt x="642" y="1310"/>
                  </a:lnTo>
                  <a:lnTo>
                    <a:pt x="653" y="1259"/>
                  </a:lnTo>
                  <a:lnTo>
                    <a:pt x="665" y="1197"/>
                  </a:lnTo>
                  <a:lnTo>
                    <a:pt x="680" y="1141"/>
                  </a:lnTo>
                  <a:lnTo>
                    <a:pt x="689" y="1114"/>
                  </a:lnTo>
                  <a:lnTo>
                    <a:pt x="698" y="1088"/>
                  </a:lnTo>
                  <a:lnTo>
                    <a:pt x="708" y="1063"/>
                  </a:lnTo>
                  <a:lnTo>
                    <a:pt x="719" y="1037"/>
                  </a:lnTo>
                  <a:lnTo>
                    <a:pt x="732" y="1012"/>
                  </a:lnTo>
                  <a:lnTo>
                    <a:pt x="744" y="989"/>
                  </a:lnTo>
                  <a:lnTo>
                    <a:pt x="759" y="966"/>
                  </a:lnTo>
                  <a:lnTo>
                    <a:pt x="772" y="942"/>
                  </a:lnTo>
                  <a:lnTo>
                    <a:pt x="787" y="920"/>
                  </a:lnTo>
                  <a:lnTo>
                    <a:pt x="803" y="898"/>
                  </a:lnTo>
                  <a:lnTo>
                    <a:pt x="819" y="877"/>
                  </a:lnTo>
                  <a:lnTo>
                    <a:pt x="835" y="857"/>
                  </a:lnTo>
                  <a:lnTo>
                    <a:pt x="852" y="836"/>
                  </a:lnTo>
                  <a:lnTo>
                    <a:pt x="869" y="815"/>
                  </a:lnTo>
                  <a:lnTo>
                    <a:pt x="887" y="795"/>
                  </a:lnTo>
                  <a:lnTo>
                    <a:pt x="906" y="776"/>
                  </a:lnTo>
                  <a:lnTo>
                    <a:pt x="924" y="756"/>
                  </a:lnTo>
                  <a:lnTo>
                    <a:pt x="942" y="737"/>
                  </a:lnTo>
                  <a:lnTo>
                    <a:pt x="962" y="717"/>
                  </a:lnTo>
                  <a:lnTo>
                    <a:pt x="982" y="697"/>
                  </a:lnTo>
                  <a:lnTo>
                    <a:pt x="1001" y="679"/>
                  </a:lnTo>
                  <a:lnTo>
                    <a:pt x="1021" y="659"/>
                  </a:lnTo>
                  <a:lnTo>
                    <a:pt x="1040" y="641"/>
                  </a:lnTo>
                  <a:lnTo>
                    <a:pt x="1060" y="623"/>
                  </a:lnTo>
                  <a:lnTo>
                    <a:pt x="1080" y="603"/>
                  </a:lnTo>
                  <a:lnTo>
                    <a:pt x="1101" y="585"/>
                  </a:lnTo>
                  <a:lnTo>
                    <a:pt x="1120" y="565"/>
                  </a:lnTo>
                  <a:lnTo>
                    <a:pt x="1140" y="545"/>
                  </a:lnTo>
                  <a:lnTo>
                    <a:pt x="1161" y="527"/>
                  </a:lnTo>
                  <a:lnTo>
                    <a:pt x="1180" y="507"/>
                  </a:lnTo>
                  <a:lnTo>
                    <a:pt x="1203" y="531"/>
                  </a:lnTo>
                  <a:lnTo>
                    <a:pt x="1190" y="543"/>
                  </a:lnTo>
                  <a:lnTo>
                    <a:pt x="1178" y="555"/>
                  </a:lnTo>
                  <a:lnTo>
                    <a:pt x="1167" y="567"/>
                  </a:lnTo>
                  <a:lnTo>
                    <a:pt x="1154" y="580"/>
                  </a:lnTo>
                  <a:lnTo>
                    <a:pt x="1143" y="592"/>
                  </a:lnTo>
                  <a:lnTo>
                    <a:pt x="1131" y="604"/>
                  </a:lnTo>
                  <a:lnTo>
                    <a:pt x="1120" y="616"/>
                  </a:lnTo>
                  <a:lnTo>
                    <a:pt x="1110" y="629"/>
                  </a:lnTo>
                  <a:lnTo>
                    <a:pt x="1089" y="652"/>
                  </a:lnTo>
                  <a:lnTo>
                    <a:pt x="1070" y="675"/>
                  </a:lnTo>
                  <a:lnTo>
                    <a:pt x="1050" y="699"/>
                  </a:lnTo>
                  <a:lnTo>
                    <a:pt x="1033" y="721"/>
                  </a:lnTo>
                  <a:lnTo>
                    <a:pt x="1016" y="743"/>
                  </a:lnTo>
                  <a:lnTo>
                    <a:pt x="1000" y="765"/>
                  </a:lnTo>
                  <a:lnTo>
                    <a:pt x="984" y="786"/>
                  </a:lnTo>
                  <a:lnTo>
                    <a:pt x="969" y="806"/>
                  </a:lnTo>
                  <a:lnTo>
                    <a:pt x="956" y="827"/>
                  </a:lnTo>
                  <a:lnTo>
                    <a:pt x="942" y="848"/>
                  </a:lnTo>
                  <a:lnTo>
                    <a:pt x="930" y="868"/>
                  </a:lnTo>
                  <a:lnTo>
                    <a:pt x="918" y="887"/>
                  </a:lnTo>
                  <a:lnTo>
                    <a:pt x="897" y="926"/>
                  </a:lnTo>
                  <a:lnTo>
                    <a:pt x="877" y="964"/>
                  </a:lnTo>
                  <a:lnTo>
                    <a:pt x="860" y="1001"/>
                  </a:lnTo>
                  <a:lnTo>
                    <a:pt x="844" y="1037"/>
                  </a:lnTo>
                  <a:lnTo>
                    <a:pt x="831" y="1071"/>
                  </a:lnTo>
                  <a:lnTo>
                    <a:pt x="819" y="1104"/>
                  </a:lnTo>
                  <a:lnTo>
                    <a:pt x="808" y="1137"/>
                  </a:lnTo>
                  <a:lnTo>
                    <a:pt x="798" y="1169"/>
                  </a:lnTo>
                  <a:lnTo>
                    <a:pt x="779" y="1232"/>
                  </a:lnTo>
                  <a:lnTo>
                    <a:pt x="763" y="1292"/>
                  </a:lnTo>
                  <a:lnTo>
                    <a:pt x="754" y="1321"/>
                  </a:lnTo>
                  <a:lnTo>
                    <a:pt x="745" y="1351"/>
                  </a:lnTo>
                  <a:lnTo>
                    <a:pt x="735" y="1380"/>
                  </a:lnTo>
                  <a:lnTo>
                    <a:pt x="724" y="1408"/>
                  </a:lnTo>
                  <a:lnTo>
                    <a:pt x="713" y="1436"/>
                  </a:lnTo>
                  <a:lnTo>
                    <a:pt x="700" y="1465"/>
                  </a:lnTo>
                  <a:lnTo>
                    <a:pt x="685" y="1493"/>
                  </a:lnTo>
                  <a:lnTo>
                    <a:pt x="669" y="1522"/>
                  </a:lnTo>
                  <a:lnTo>
                    <a:pt x="651" y="1550"/>
                  </a:lnTo>
                  <a:lnTo>
                    <a:pt x="630" y="1579"/>
                  </a:lnTo>
                  <a:lnTo>
                    <a:pt x="607" y="1607"/>
                  </a:lnTo>
                  <a:lnTo>
                    <a:pt x="593" y="1621"/>
                  </a:lnTo>
                  <a:lnTo>
                    <a:pt x="581" y="1636"/>
                  </a:lnTo>
                  <a:lnTo>
                    <a:pt x="561" y="1656"/>
                  </a:lnTo>
                  <a:lnTo>
                    <a:pt x="542" y="1675"/>
                  </a:lnTo>
                  <a:lnTo>
                    <a:pt x="522" y="1695"/>
                  </a:lnTo>
                  <a:lnTo>
                    <a:pt x="502" y="1713"/>
                  </a:lnTo>
                  <a:lnTo>
                    <a:pt x="483" y="1731"/>
                  </a:lnTo>
                  <a:lnTo>
                    <a:pt x="462" y="1748"/>
                  </a:lnTo>
                  <a:lnTo>
                    <a:pt x="442" y="1765"/>
                  </a:lnTo>
                  <a:lnTo>
                    <a:pt x="423" y="1782"/>
                  </a:lnTo>
                  <a:lnTo>
                    <a:pt x="403" y="1799"/>
                  </a:lnTo>
                  <a:lnTo>
                    <a:pt x="385" y="1816"/>
                  </a:lnTo>
                  <a:lnTo>
                    <a:pt x="365" y="1834"/>
                  </a:lnTo>
                  <a:lnTo>
                    <a:pt x="347" y="1851"/>
                  </a:lnTo>
                  <a:lnTo>
                    <a:pt x="328" y="1867"/>
                  </a:lnTo>
                  <a:lnTo>
                    <a:pt x="310" y="1884"/>
                  </a:lnTo>
                  <a:lnTo>
                    <a:pt x="293" y="1902"/>
                  </a:lnTo>
                  <a:lnTo>
                    <a:pt x="276" y="1919"/>
                  </a:lnTo>
                  <a:lnTo>
                    <a:pt x="260" y="1938"/>
                  </a:lnTo>
                  <a:lnTo>
                    <a:pt x="244" y="1956"/>
                  </a:lnTo>
                  <a:lnTo>
                    <a:pt x="229" y="1976"/>
                  </a:lnTo>
                  <a:lnTo>
                    <a:pt x="214" y="1995"/>
                  </a:lnTo>
                  <a:lnTo>
                    <a:pt x="201" y="2015"/>
                  </a:lnTo>
                  <a:lnTo>
                    <a:pt x="189" y="2037"/>
                  </a:lnTo>
                  <a:lnTo>
                    <a:pt x="167" y="2081"/>
                  </a:lnTo>
                  <a:lnTo>
                    <a:pt x="149" y="2130"/>
                  </a:lnTo>
                  <a:lnTo>
                    <a:pt x="136" y="2183"/>
                  </a:lnTo>
                  <a:lnTo>
                    <a:pt x="125" y="2303"/>
                  </a:lnTo>
                  <a:lnTo>
                    <a:pt x="92" y="2303"/>
                  </a:lnTo>
                  <a:lnTo>
                    <a:pt x="100" y="2158"/>
                  </a:lnTo>
                  <a:lnTo>
                    <a:pt x="110" y="2097"/>
                  </a:lnTo>
                  <a:lnTo>
                    <a:pt x="125" y="2041"/>
                  </a:lnTo>
                  <a:lnTo>
                    <a:pt x="133" y="2015"/>
                  </a:lnTo>
                  <a:lnTo>
                    <a:pt x="143" y="1990"/>
                  </a:lnTo>
                  <a:lnTo>
                    <a:pt x="153" y="1967"/>
                  </a:lnTo>
                  <a:lnTo>
                    <a:pt x="165" y="1945"/>
                  </a:lnTo>
                  <a:lnTo>
                    <a:pt x="178" y="1923"/>
                  </a:lnTo>
                  <a:lnTo>
                    <a:pt x="191" y="1901"/>
                  </a:lnTo>
                  <a:lnTo>
                    <a:pt x="205" y="1881"/>
                  </a:lnTo>
                  <a:lnTo>
                    <a:pt x="219" y="1861"/>
                  </a:lnTo>
                  <a:lnTo>
                    <a:pt x="219" y="18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943600" y="3962520"/>
            <a:ext cx="1143000" cy="1900080"/>
          </a:xfrm>
          <a:custGeom>
            <a:avLst/>
            <a:gdLst/>
            <a:ahLst/>
            <a:rect l="l" t="t" r="r" b="b"/>
            <a:pathLst>
              <a:path w="1439" h="2393">
                <a:moveTo>
                  <a:pt x="635" y="3"/>
                </a:moveTo>
                <a:lnTo>
                  <a:pt x="631" y="128"/>
                </a:lnTo>
                <a:lnTo>
                  <a:pt x="636" y="192"/>
                </a:lnTo>
                <a:lnTo>
                  <a:pt x="645" y="256"/>
                </a:lnTo>
                <a:lnTo>
                  <a:pt x="657" y="320"/>
                </a:lnTo>
                <a:lnTo>
                  <a:pt x="673" y="384"/>
                </a:lnTo>
                <a:lnTo>
                  <a:pt x="681" y="416"/>
                </a:lnTo>
                <a:lnTo>
                  <a:pt x="691" y="448"/>
                </a:lnTo>
                <a:lnTo>
                  <a:pt x="702" y="480"/>
                </a:lnTo>
                <a:lnTo>
                  <a:pt x="713" y="511"/>
                </a:lnTo>
                <a:lnTo>
                  <a:pt x="725" y="543"/>
                </a:lnTo>
                <a:lnTo>
                  <a:pt x="738" y="573"/>
                </a:lnTo>
                <a:lnTo>
                  <a:pt x="751" y="604"/>
                </a:lnTo>
                <a:lnTo>
                  <a:pt x="765" y="635"/>
                </a:lnTo>
                <a:lnTo>
                  <a:pt x="779" y="665"/>
                </a:lnTo>
                <a:lnTo>
                  <a:pt x="794" y="695"/>
                </a:lnTo>
                <a:lnTo>
                  <a:pt x="810" y="724"/>
                </a:lnTo>
                <a:lnTo>
                  <a:pt x="826" y="752"/>
                </a:lnTo>
                <a:lnTo>
                  <a:pt x="843" y="782"/>
                </a:lnTo>
                <a:lnTo>
                  <a:pt x="860" y="809"/>
                </a:lnTo>
                <a:lnTo>
                  <a:pt x="877" y="837"/>
                </a:lnTo>
                <a:lnTo>
                  <a:pt x="896" y="864"/>
                </a:lnTo>
                <a:lnTo>
                  <a:pt x="914" y="889"/>
                </a:lnTo>
                <a:lnTo>
                  <a:pt x="933" y="915"/>
                </a:lnTo>
                <a:lnTo>
                  <a:pt x="952" y="940"/>
                </a:lnTo>
                <a:lnTo>
                  <a:pt x="972" y="964"/>
                </a:lnTo>
                <a:lnTo>
                  <a:pt x="984" y="945"/>
                </a:lnTo>
                <a:lnTo>
                  <a:pt x="998" y="927"/>
                </a:lnTo>
                <a:lnTo>
                  <a:pt x="1012" y="909"/>
                </a:lnTo>
                <a:lnTo>
                  <a:pt x="1028" y="893"/>
                </a:lnTo>
                <a:lnTo>
                  <a:pt x="1043" y="876"/>
                </a:lnTo>
                <a:lnTo>
                  <a:pt x="1060" y="861"/>
                </a:lnTo>
                <a:lnTo>
                  <a:pt x="1077" y="845"/>
                </a:lnTo>
                <a:lnTo>
                  <a:pt x="1094" y="831"/>
                </a:lnTo>
                <a:lnTo>
                  <a:pt x="1111" y="817"/>
                </a:lnTo>
                <a:lnTo>
                  <a:pt x="1130" y="804"/>
                </a:lnTo>
                <a:lnTo>
                  <a:pt x="1148" y="790"/>
                </a:lnTo>
                <a:lnTo>
                  <a:pt x="1168" y="778"/>
                </a:lnTo>
                <a:lnTo>
                  <a:pt x="1187" y="766"/>
                </a:lnTo>
                <a:lnTo>
                  <a:pt x="1206" y="753"/>
                </a:lnTo>
                <a:lnTo>
                  <a:pt x="1225" y="742"/>
                </a:lnTo>
                <a:lnTo>
                  <a:pt x="1246" y="731"/>
                </a:lnTo>
                <a:lnTo>
                  <a:pt x="1311" y="764"/>
                </a:lnTo>
                <a:lnTo>
                  <a:pt x="1276" y="778"/>
                </a:lnTo>
                <a:lnTo>
                  <a:pt x="1241" y="795"/>
                </a:lnTo>
                <a:lnTo>
                  <a:pt x="1210" y="815"/>
                </a:lnTo>
                <a:lnTo>
                  <a:pt x="1179" y="838"/>
                </a:lnTo>
                <a:lnTo>
                  <a:pt x="1164" y="850"/>
                </a:lnTo>
                <a:lnTo>
                  <a:pt x="1149" y="863"/>
                </a:lnTo>
                <a:lnTo>
                  <a:pt x="1136" y="876"/>
                </a:lnTo>
                <a:lnTo>
                  <a:pt x="1123" y="891"/>
                </a:lnTo>
                <a:lnTo>
                  <a:pt x="1098" y="920"/>
                </a:lnTo>
                <a:lnTo>
                  <a:pt x="1075" y="951"/>
                </a:lnTo>
                <a:lnTo>
                  <a:pt x="1055" y="984"/>
                </a:lnTo>
                <a:lnTo>
                  <a:pt x="1037" y="1019"/>
                </a:lnTo>
                <a:lnTo>
                  <a:pt x="1021" y="1055"/>
                </a:lnTo>
                <a:lnTo>
                  <a:pt x="1009" y="1091"/>
                </a:lnTo>
                <a:lnTo>
                  <a:pt x="990" y="1165"/>
                </a:lnTo>
                <a:lnTo>
                  <a:pt x="984" y="1241"/>
                </a:lnTo>
                <a:lnTo>
                  <a:pt x="990" y="1306"/>
                </a:lnTo>
                <a:lnTo>
                  <a:pt x="996" y="1337"/>
                </a:lnTo>
                <a:lnTo>
                  <a:pt x="1006" y="1368"/>
                </a:lnTo>
                <a:lnTo>
                  <a:pt x="1017" y="1398"/>
                </a:lnTo>
                <a:lnTo>
                  <a:pt x="1031" y="1428"/>
                </a:lnTo>
                <a:lnTo>
                  <a:pt x="1045" y="1457"/>
                </a:lnTo>
                <a:lnTo>
                  <a:pt x="1062" y="1486"/>
                </a:lnTo>
                <a:lnTo>
                  <a:pt x="1080" y="1516"/>
                </a:lnTo>
                <a:lnTo>
                  <a:pt x="1099" y="1545"/>
                </a:lnTo>
                <a:lnTo>
                  <a:pt x="1120" y="1573"/>
                </a:lnTo>
                <a:lnTo>
                  <a:pt x="1141" y="1603"/>
                </a:lnTo>
                <a:lnTo>
                  <a:pt x="1162" y="1632"/>
                </a:lnTo>
                <a:lnTo>
                  <a:pt x="1185" y="1663"/>
                </a:lnTo>
                <a:lnTo>
                  <a:pt x="1207" y="1692"/>
                </a:lnTo>
                <a:lnTo>
                  <a:pt x="1229" y="1723"/>
                </a:lnTo>
                <a:lnTo>
                  <a:pt x="1251" y="1755"/>
                </a:lnTo>
                <a:lnTo>
                  <a:pt x="1273" y="1786"/>
                </a:lnTo>
                <a:lnTo>
                  <a:pt x="1294" y="1819"/>
                </a:lnTo>
                <a:lnTo>
                  <a:pt x="1315" y="1852"/>
                </a:lnTo>
                <a:lnTo>
                  <a:pt x="1325" y="1869"/>
                </a:lnTo>
                <a:lnTo>
                  <a:pt x="1335" y="1886"/>
                </a:lnTo>
                <a:lnTo>
                  <a:pt x="1354" y="1920"/>
                </a:lnTo>
                <a:lnTo>
                  <a:pt x="1371" y="1957"/>
                </a:lnTo>
                <a:lnTo>
                  <a:pt x="1387" y="1994"/>
                </a:lnTo>
                <a:lnTo>
                  <a:pt x="1401" y="2033"/>
                </a:lnTo>
                <a:lnTo>
                  <a:pt x="1413" y="2072"/>
                </a:lnTo>
                <a:lnTo>
                  <a:pt x="1431" y="2157"/>
                </a:lnTo>
                <a:lnTo>
                  <a:pt x="1439" y="2246"/>
                </a:lnTo>
                <a:lnTo>
                  <a:pt x="1435" y="2343"/>
                </a:lnTo>
                <a:lnTo>
                  <a:pt x="1431" y="2368"/>
                </a:lnTo>
                <a:lnTo>
                  <a:pt x="1424" y="2384"/>
                </a:lnTo>
                <a:lnTo>
                  <a:pt x="1414" y="2392"/>
                </a:lnTo>
                <a:lnTo>
                  <a:pt x="1403" y="2393"/>
                </a:lnTo>
                <a:lnTo>
                  <a:pt x="1375" y="2378"/>
                </a:lnTo>
                <a:lnTo>
                  <a:pt x="1360" y="2363"/>
                </a:lnTo>
                <a:lnTo>
                  <a:pt x="1346" y="2344"/>
                </a:lnTo>
                <a:lnTo>
                  <a:pt x="1330" y="2324"/>
                </a:lnTo>
                <a:lnTo>
                  <a:pt x="1315" y="2302"/>
                </a:lnTo>
                <a:lnTo>
                  <a:pt x="1301" y="2278"/>
                </a:lnTo>
                <a:lnTo>
                  <a:pt x="1289" y="2256"/>
                </a:lnTo>
                <a:lnTo>
                  <a:pt x="1270" y="2215"/>
                </a:lnTo>
                <a:lnTo>
                  <a:pt x="1260" y="2185"/>
                </a:lnTo>
                <a:lnTo>
                  <a:pt x="1249" y="2137"/>
                </a:lnTo>
                <a:lnTo>
                  <a:pt x="1235" y="2092"/>
                </a:lnTo>
                <a:lnTo>
                  <a:pt x="1221" y="2045"/>
                </a:lnTo>
                <a:lnTo>
                  <a:pt x="1202" y="2001"/>
                </a:lnTo>
                <a:lnTo>
                  <a:pt x="1192" y="1978"/>
                </a:lnTo>
                <a:lnTo>
                  <a:pt x="1183" y="1956"/>
                </a:lnTo>
                <a:lnTo>
                  <a:pt x="1172" y="1934"/>
                </a:lnTo>
                <a:lnTo>
                  <a:pt x="1161" y="1912"/>
                </a:lnTo>
                <a:lnTo>
                  <a:pt x="1149" y="1890"/>
                </a:lnTo>
                <a:lnTo>
                  <a:pt x="1138" y="1868"/>
                </a:lnTo>
                <a:lnTo>
                  <a:pt x="1127" y="1846"/>
                </a:lnTo>
                <a:lnTo>
                  <a:pt x="1115" y="1824"/>
                </a:lnTo>
                <a:lnTo>
                  <a:pt x="1104" y="1801"/>
                </a:lnTo>
                <a:lnTo>
                  <a:pt x="1092" y="1781"/>
                </a:lnTo>
                <a:lnTo>
                  <a:pt x="1080" y="1759"/>
                </a:lnTo>
                <a:lnTo>
                  <a:pt x="1067" y="1736"/>
                </a:lnTo>
                <a:lnTo>
                  <a:pt x="1056" y="1714"/>
                </a:lnTo>
                <a:lnTo>
                  <a:pt x="1044" y="1692"/>
                </a:lnTo>
                <a:lnTo>
                  <a:pt x="1033" y="1670"/>
                </a:lnTo>
                <a:lnTo>
                  <a:pt x="1021" y="1648"/>
                </a:lnTo>
                <a:lnTo>
                  <a:pt x="1010" y="1626"/>
                </a:lnTo>
                <a:lnTo>
                  <a:pt x="999" y="1604"/>
                </a:lnTo>
                <a:lnTo>
                  <a:pt x="989" y="1582"/>
                </a:lnTo>
                <a:lnTo>
                  <a:pt x="979" y="1560"/>
                </a:lnTo>
                <a:lnTo>
                  <a:pt x="960" y="1516"/>
                </a:lnTo>
                <a:lnTo>
                  <a:pt x="942" y="1470"/>
                </a:lnTo>
                <a:lnTo>
                  <a:pt x="893" y="1473"/>
                </a:lnTo>
                <a:lnTo>
                  <a:pt x="833" y="1467"/>
                </a:lnTo>
                <a:lnTo>
                  <a:pt x="771" y="1458"/>
                </a:lnTo>
                <a:lnTo>
                  <a:pt x="714" y="1457"/>
                </a:lnTo>
                <a:lnTo>
                  <a:pt x="349" y="1501"/>
                </a:lnTo>
                <a:lnTo>
                  <a:pt x="271" y="1524"/>
                </a:lnTo>
                <a:lnTo>
                  <a:pt x="231" y="1539"/>
                </a:lnTo>
                <a:lnTo>
                  <a:pt x="192" y="1556"/>
                </a:lnTo>
                <a:lnTo>
                  <a:pt x="151" y="1577"/>
                </a:lnTo>
                <a:lnTo>
                  <a:pt x="109" y="1602"/>
                </a:lnTo>
                <a:lnTo>
                  <a:pt x="87" y="1615"/>
                </a:lnTo>
                <a:lnTo>
                  <a:pt x="65" y="1629"/>
                </a:lnTo>
                <a:lnTo>
                  <a:pt x="41" y="1645"/>
                </a:lnTo>
                <a:lnTo>
                  <a:pt x="18" y="1660"/>
                </a:lnTo>
                <a:lnTo>
                  <a:pt x="0" y="1634"/>
                </a:lnTo>
                <a:lnTo>
                  <a:pt x="24" y="1616"/>
                </a:lnTo>
                <a:lnTo>
                  <a:pt x="49" y="1599"/>
                </a:lnTo>
                <a:lnTo>
                  <a:pt x="75" y="1583"/>
                </a:lnTo>
                <a:lnTo>
                  <a:pt x="100" y="1567"/>
                </a:lnTo>
                <a:lnTo>
                  <a:pt x="126" y="1551"/>
                </a:lnTo>
                <a:lnTo>
                  <a:pt x="153" y="1537"/>
                </a:lnTo>
                <a:lnTo>
                  <a:pt x="180" y="1522"/>
                </a:lnTo>
                <a:lnTo>
                  <a:pt x="207" y="1507"/>
                </a:lnTo>
                <a:lnTo>
                  <a:pt x="234" y="1494"/>
                </a:lnTo>
                <a:lnTo>
                  <a:pt x="262" y="1480"/>
                </a:lnTo>
                <a:lnTo>
                  <a:pt x="290" y="1468"/>
                </a:lnTo>
                <a:lnTo>
                  <a:pt x="317" y="1456"/>
                </a:lnTo>
                <a:lnTo>
                  <a:pt x="347" y="1444"/>
                </a:lnTo>
                <a:lnTo>
                  <a:pt x="375" y="1432"/>
                </a:lnTo>
                <a:lnTo>
                  <a:pt x="432" y="1413"/>
                </a:lnTo>
                <a:lnTo>
                  <a:pt x="491" y="1396"/>
                </a:lnTo>
                <a:lnTo>
                  <a:pt x="550" y="1382"/>
                </a:lnTo>
                <a:lnTo>
                  <a:pt x="610" y="1371"/>
                </a:lnTo>
                <a:lnTo>
                  <a:pt x="670" y="1364"/>
                </a:lnTo>
                <a:lnTo>
                  <a:pt x="792" y="1359"/>
                </a:lnTo>
                <a:lnTo>
                  <a:pt x="913" y="1370"/>
                </a:lnTo>
                <a:lnTo>
                  <a:pt x="899" y="1290"/>
                </a:lnTo>
                <a:lnTo>
                  <a:pt x="896" y="1211"/>
                </a:lnTo>
                <a:lnTo>
                  <a:pt x="903" y="1130"/>
                </a:lnTo>
                <a:lnTo>
                  <a:pt x="913" y="1091"/>
                </a:lnTo>
                <a:lnTo>
                  <a:pt x="925" y="1053"/>
                </a:lnTo>
                <a:lnTo>
                  <a:pt x="884" y="1026"/>
                </a:lnTo>
                <a:lnTo>
                  <a:pt x="864" y="1007"/>
                </a:lnTo>
                <a:lnTo>
                  <a:pt x="846" y="986"/>
                </a:lnTo>
                <a:lnTo>
                  <a:pt x="826" y="962"/>
                </a:lnTo>
                <a:lnTo>
                  <a:pt x="809" y="935"/>
                </a:lnTo>
                <a:lnTo>
                  <a:pt x="792" y="907"/>
                </a:lnTo>
                <a:lnTo>
                  <a:pt x="776" y="875"/>
                </a:lnTo>
                <a:lnTo>
                  <a:pt x="760" y="842"/>
                </a:lnTo>
                <a:lnTo>
                  <a:pt x="745" y="807"/>
                </a:lnTo>
                <a:lnTo>
                  <a:pt x="730" y="771"/>
                </a:lnTo>
                <a:lnTo>
                  <a:pt x="717" y="733"/>
                </a:lnTo>
                <a:lnTo>
                  <a:pt x="703" y="693"/>
                </a:lnTo>
                <a:lnTo>
                  <a:pt x="692" y="654"/>
                </a:lnTo>
                <a:lnTo>
                  <a:pt x="680" y="614"/>
                </a:lnTo>
                <a:lnTo>
                  <a:pt x="670" y="572"/>
                </a:lnTo>
                <a:lnTo>
                  <a:pt x="651" y="489"/>
                </a:lnTo>
                <a:lnTo>
                  <a:pt x="635" y="405"/>
                </a:lnTo>
                <a:lnTo>
                  <a:pt x="621" y="323"/>
                </a:lnTo>
                <a:lnTo>
                  <a:pt x="611" y="246"/>
                </a:lnTo>
                <a:lnTo>
                  <a:pt x="600" y="106"/>
                </a:lnTo>
                <a:lnTo>
                  <a:pt x="602" y="0"/>
                </a:lnTo>
                <a:lnTo>
                  <a:pt x="635" y="3"/>
                </a:lnTo>
                <a:lnTo>
                  <a:pt x="63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8E19-03BA-4D24-B918-2B9DD64DD133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F1525EC-2A53-4930-9B74-126096B7CD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71640" y="155736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691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Why FORT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FORTH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Install F#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Demo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FORTH Interpr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FORTH Comp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Exerci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A Challe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395B-8B0E-45F4-AD0B-F70AB6932E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7BE7FBF-612D-4584-A01F-5D701E43AC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1640" y="155736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Why FORTH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763272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mplest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tform independent 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ght object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active testing and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eal programmin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87BB-E5E5-4546-80A9-63802E6062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8A32F51-2449-453B-A07C-030E13A739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Characteristics of FOR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6351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標楷體"/>
              </a:rPr>
              <a:t>Extensible instruction 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標楷體"/>
              </a:rPr>
              <a:t>200 common instructions supporting 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標楷體"/>
              </a:rPr>
              <a:t>Dual stack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標楷體"/>
              </a:rPr>
              <a:t>Return stack for nested return addr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標楷體"/>
              </a:rPr>
              <a:t>Data stack for nested parameter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標楷體"/>
              </a:rPr>
              <a:t>Postfix ALU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標楷體"/>
              </a:rPr>
              <a:t>ALU commands comes after all numerical arg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標楷體"/>
              </a:rPr>
              <a:t>Interactive command interpr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標楷體"/>
              </a:rPr>
              <a:t>Modular and structured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8B19-0224-4133-A9D7-DBC6A8956B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47B783C-D41E-40EC-ADA9-81AC6AA516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70028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Install F# FORTH Syste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635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py 030929ESOCFM10.zi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to a working fol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zip all the files to a fol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uble click :\F#\F#.EX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lect demo progra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F5E0-E0CB-4534-9085-7FA0D2790B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FACAE8C-98B7-4128-9666-F2563C9E93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2920" y="963720"/>
            <a:ext cx="7201080" cy="503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0E54-7515-4842-A9E5-2A3E1318D7D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2BA90DD-E914-4A3C-8259-266B804D6D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Demo Progra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000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CONSOLE.F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DEMO.F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EXTEND.F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LLO.F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AL.F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27AE-37C4-4994-A7FF-E01B9E4DF2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005C6D-6344-495E-9F4D-FC4853F357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16000" y="162864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FORTH Interpret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000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2 +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RE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X HERE 200 DU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E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B6F5-2860-4C26-B244-E57BA852CD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F72A69B-5962-4F4B-88A9-338BC9234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1773360"/>
            <a:ext cx="7010280" cy="3886200"/>
          </a:xfrm>
          <a:prstGeom prst="parallelogram">
            <a:avLst>
              <a:gd name="adj" fmla="val 50"/>
            </a:avLst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88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標楷體"/>
              </a:rPr>
              <a:t>FORTH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000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HELLO CR .” HELLO, WORLD!”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LL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B47F-CD5D-4C47-A5B7-EFAC7724F8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648CD27-EB22-40A1-9807-3FBAEC5217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08:10:10Z</dcterms:created>
  <dc:creator>今井　正徳</dc:creator>
  <dc:description/>
  <dc:language>en-US</dc:language>
  <cp:lastModifiedBy>Ting</cp:lastModifiedBy>
  <dcterms:modified xsi:type="dcterms:W3CDTF">2005-10-26T12:42:21Z</dcterms:modified>
  <cp:revision>146</cp:revision>
  <dc:subject/>
  <dc:title>ROMカードプロジェクト報告</dc:title>
</cp:coreProperties>
</file>